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20C4-569D-4A1D-92CE-0711B3D11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0E36-4F57-45ED-B034-EF5BD030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D65F-3A26-46D8-A860-35DC1F3D1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B266-60BE-4B67-84AF-BCE3E7C61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8DA8-76AB-4E62-B029-C84049BF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6C8C-3413-4C62-AE13-E5096D2B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3E88-6225-4238-B3B1-F997B28C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63C9-DFB0-4C25-8E7E-204A64FF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B924-A322-4BCF-8FDA-51760638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281A-7549-4ECD-BF48-672E499B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6968-261A-4027-B4A8-2E241475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B199-45FB-42D6-9975-3FC25B27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BF50-2B06-4B3B-87D7-6D55680B0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907920"/>
            <a:ext cx="331344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03280" y="1413000"/>
            <a:ext cx="1224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rcep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74920" y="2708280"/>
            <a:ext cx="1009800" cy="1008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97120" y="1557360"/>
            <a:ext cx="362160" cy="503280"/>
          </a:xfrm>
          <a:prstGeom prst="rightArrow">
            <a:avLst>
              <a:gd name="adj1" fmla="val 45111"/>
              <a:gd name="adj2" fmla="val 4429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00360" y="1197000"/>
            <a:ext cx="2890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64000" y="907920"/>
            <a:ext cx="324036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580000" y="90792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08720" y="1413000"/>
            <a:ext cx="1224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36000" y="1341360"/>
            <a:ext cx="122364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rcep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02560" y="1557360"/>
            <a:ext cx="361800" cy="503280"/>
          </a:xfrm>
          <a:prstGeom prst="rightArrow">
            <a:avLst>
              <a:gd name="adj1" fmla="val 45111"/>
              <a:gd name="adj2" fmla="val 4429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36000" y="2781360"/>
            <a:ext cx="1223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p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25840" y="1557360"/>
            <a:ext cx="1009800" cy="503280"/>
          </a:xfrm>
          <a:prstGeom prst="rightArrow">
            <a:avLst>
              <a:gd name="adj1" fmla="val 45111"/>
              <a:gd name="adj2" fmla="val 359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14920" y="1197000"/>
            <a:ext cx="288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211280" y="2133720"/>
            <a:ext cx="3024360" cy="863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907920"/>
            <a:ext cx="33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04000" y="1197000"/>
            <a:ext cx="2890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08720" y="2349360"/>
            <a:ext cx="28908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35640" y="2637000"/>
            <a:ext cx="288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67640" y="2276640"/>
            <a:ext cx="43164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6000" y="2637000"/>
            <a:ext cx="288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763640" y="2275920"/>
            <a:ext cx="432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32000" y="1413000"/>
            <a:ext cx="1224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est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2781360"/>
            <a:ext cx="1224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Test Ru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03280" y="2349360"/>
            <a:ext cx="28908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56000" y="2205000"/>
            <a:ext cx="792000" cy="719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3640" y="2492280"/>
            <a:ext cx="288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66920" y="2349360"/>
            <a:ext cx="28908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Vincent Massol</cp:lastModifiedBy>
  <dcterms:modified xsi:type="dcterms:W3CDTF">2003-12-23T12:49:51Z</dcterms:modified>
  <cp:revision>40</cp:revision>
  <dc:subject/>
  <dc:title>Présentation PowerPoint</dc:title>
</cp:coreProperties>
</file>