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C76-0C3D-45F2-9542-815726B4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2CE-CF22-433F-9C7B-5B764FC0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38C-B1E9-4940-B1D5-69249FF5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511-3370-496A-89D2-B41A98BE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C31-A318-41AD-978D-AC8D16D6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D95-BE9C-43FA-9A35-76F2C544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F13-03C3-4CEA-BEA8-8BC74F56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C81-840D-44B3-86FC-27D7CA03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F13-2FFB-4590-A731-19ADFBC0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9A0-703A-4314-931C-E2C9762A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152D-24A1-4C0D-A8F9-6C5729B3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4E4-4927-4C4B-AF56-37AF5D9F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21F1-9ED1-497B-952A-0AFEA5D64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40080" y="2916360"/>
            <a:ext cx="100836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7516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11-01T13:30:19Z</dcterms:modified>
  <cp:revision>52</cp:revision>
  <dc:subject/>
  <dc:title>Présentation PowerPoint</dc:title>
</cp:coreProperties>
</file>