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9346-9EA4-44D0-B0D5-8BDA8851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EB2A-C2B4-4A38-978B-8F398BF8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DF69-A6B6-4486-AB1A-4E1E56B3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479-12C7-4CBA-830F-135A72A5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D066-D5A6-4FFA-AA20-FCBB7576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B512-67BD-4250-A938-5A605B15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3825-01DF-4D32-ACB9-3B702803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8D83-9203-40C5-B4E1-DED2FCB4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821C-4A04-40EA-B7E2-8AE8DF13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082C-B308-4536-9620-1808A840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30C-6320-4039-BDEF-741723FA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8C8-0360-477C-9352-E800FAA5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D1E6-A266-49EB-80D8-8238CFD4A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2:13Z</dcterms:modified>
  <cp:revision>7</cp:revision>
  <dc:subject/>
  <dc:title>Présentation PowerPoint</dc:title>
</cp:coreProperties>
</file>