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C02E-E263-4F9B-BDDA-5B12ACAF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4276-878B-49E2-8139-7D8DE99D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7FD4-F23A-4CA2-8547-E0DE182C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8962-1CBE-4E33-9C65-293866B0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AA4A-4352-40D9-8309-40D464D4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F91-E2A0-462C-A0BF-10B2BCC4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D026-C71D-4658-8587-D43722C1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F57F-BE80-42EC-933B-A70BC9CC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7FA2-2A16-4BD4-A671-D36B81BF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248B-CF3D-45F7-A14F-05416B11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8945-A5F5-49C8-A992-B09EAC49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097B-AE5B-4947-92C2-F7811761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63D1-0CE6-4E6D-B67A-7E3FFB53E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3040" y="2149200"/>
            <a:ext cx="6928560" cy="1028880"/>
          </a:xfrm>
          <a:prstGeom prst="bentConnector3">
            <a:avLst>
              <a:gd name="adj1" fmla="val 4644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 flipH="1" flipV="1" rot="10800000">
            <a:off x="4412880" y="3190680"/>
            <a:ext cx="3191760" cy="721440"/>
          </a:xfrm>
          <a:prstGeom prst="bentConnector3">
            <a:avLst>
              <a:gd name="adj1" fmla="val -43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3971520" y="1286640"/>
            <a:ext cx="3685320" cy="8629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6200" y="17794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4320" y="3825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2800" y="942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5480" y="4351320"/>
            <a:ext cx="7361280" cy="1244520"/>
          </a:xfrm>
          <a:prstGeom prst="rightArrow">
            <a:avLst>
              <a:gd name="adj1" fmla="val 50000"/>
              <a:gd name="adj2" fmla="val 1478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221360" y="4073040"/>
            <a:ext cx="1033560" cy="84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3692160" y="4601160"/>
            <a:ext cx="205020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5119560" y="579420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6512040" y="4780080"/>
            <a:ext cx="873000" cy="519120"/>
          </a:xfrm>
          <a:prstGeom prst="pi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8680320" y="4654440"/>
            <a:ext cx="19080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8685360" y="5024520"/>
            <a:ext cx="19044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8691480" y="5391000"/>
            <a:ext cx="190440" cy="25416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7384680" y="5040000"/>
            <a:ext cx="1307160" cy="478440"/>
          </a:xfrm>
          <a:prstGeom prst="bentConnector3">
            <a:avLst>
              <a:gd name="adj1" fmla="val 4991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7385040" y="5040000"/>
            <a:ext cx="1301040" cy="113400"/>
          </a:xfrm>
          <a:prstGeom prst="bentConnector3">
            <a:avLst>
              <a:gd name="adj1" fmla="val 4993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7385040" y="4782240"/>
            <a:ext cx="1296000" cy="258120"/>
          </a:xfrm>
          <a:prstGeom prst="bentConnector3">
            <a:avLst>
              <a:gd name="adj1" fmla="val 4998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7" name=""/>
          <p:cNvCxnSpPr>
            <a:stCxn id="84" idx="7"/>
            <a:endCxn id="100" idx="9"/>
          </p:cNvCxnSpPr>
          <p:nvPr/>
        </p:nvCxnSpPr>
        <p:spPr>
          <a:xfrm flipH="1" rot="16200000">
            <a:off x="5801400" y="4329360"/>
            <a:ext cx="437400" cy="98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rot="5400000">
            <a:off x="5204880" y="3021120"/>
            <a:ext cx="2535480" cy="81108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86" stAng="10800000" swAng="5400000"/>
                <a:lnTo>
                  <a:pt x="17477" y="2874"/>
                </a:lnTo>
                <a:lnTo>
                  <a:pt x="17477" y="0"/>
                </a:lnTo>
                <a:lnTo>
                  <a:pt x="21600" y="6079"/>
                </a:lnTo>
                <a:lnTo>
                  <a:pt x="17477" y="12158"/>
                </a:lnTo>
                <a:lnTo>
                  <a:pt x="17477" y="9284"/>
                </a:lnTo>
                <a:lnTo>
                  <a:pt x="12427" y="9284"/>
                </a:lnTo>
                <a:arcTo wR="6017" hR="2876" stAng="16200000" swAng="-5400000"/>
                <a:lnTo>
                  <a:pt x="6410" y="216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3798720"/>
            <a:ext cx="7361280" cy="1244880"/>
          </a:xfrm>
          <a:prstGeom prst="rightArrow">
            <a:avLst>
              <a:gd name="adj1" fmla="val 50000"/>
              <a:gd name="adj2" fmla="val 14783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279252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8120" y="1917720"/>
            <a:ext cx="1030320" cy="528480"/>
          </a:xfrm>
          <a:prstGeom prst="wedgeRectCallout">
            <a:avLst>
              <a:gd name="adj1" fmla="val -73111"/>
              <a:gd name="adj2" fmla="val 1163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2920" y="1889280"/>
            <a:ext cx="1030320" cy="528480"/>
          </a:xfrm>
          <a:prstGeom prst="wedgeRectCallout">
            <a:avLst>
              <a:gd name="adj1" fmla="val -92990"/>
              <a:gd name="adj2" fmla="val 121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1" idx="4"/>
          </p:cNvCxnSpPr>
          <p:nvPr/>
        </p:nvCxnSpPr>
        <p:spPr>
          <a:xfrm flipH="1" flipV="1" rot="5400000">
            <a:off x="4209840" y="-1308600"/>
            <a:ext cx="996120" cy="7215840"/>
          </a:xfrm>
          <a:prstGeom prst="bentConnector4">
            <a:avLst>
              <a:gd name="adj1" fmla="val -144"/>
              <a:gd name="adj2" fmla="val 5436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4" name=""/>
          <p:cNvSpPr/>
          <p:nvPr/>
        </p:nvSpPr>
        <p:spPr>
          <a:xfrm>
            <a:off x="5027760" y="806400"/>
            <a:ext cx="1030320" cy="528840"/>
          </a:xfrm>
          <a:prstGeom prst="wedgeRectCallout">
            <a:avLst>
              <a:gd name="adj1" fmla="val -49074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4040" y="816120"/>
            <a:ext cx="1030320" cy="528480"/>
          </a:xfrm>
          <a:prstGeom prst="wedgeRectCallout">
            <a:avLst>
              <a:gd name="adj1" fmla="val -73111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7:32Z</dcterms:modified>
  <cp:revision>39</cp:revision>
  <dc:subject/>
  <dc:title>PowerPoint Presentation</dc:title>
</cp:coreProperties>
</file>