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83F6-D669-4BD3-9BB6-C48FC59C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43D5-1C6D-4859-BA3C-23E7074B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FDB-F114-457C-B3F9-6AE7D846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2C6-675C-4BF7-B8A2-99A6C451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D25-89A3-4324-BACF-91378FB0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E6B-73CA-4D75-96B5-01BDB8A0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735-63E5-4973-B4A9-41CEF46E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A01-6DE3-4BB1-92FA-C21ED6B1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4BD-3FBF-41B2-AAAD-1FED9A48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C20-35A9-408D-BC45-D0266AD0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8D5-D16B-4E15-9F4C-56DE0809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6B8-4B2E-457B-BF4C-7DC6932C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0F3-345F-4EA8-A227-3CE29A9C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42B5-A27B-4271-9ECD-D62BBC188E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11T09:03:15Z</dcterms:modified>
  <cp:revision>33</cp:revision>
  <dc:subject/>
  <dc:title>Slf4j &amp; logback projects</dc:title>
</cp:coreProperties>
</file>