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EBD-8D55-494B-8E2F-C4CF2329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600-C7AB-4FC0-84F6-47B51704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23509-49D9-44B3-85D5-4BF2FB47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94D98-D40A-4181-91CB-3B0F90B0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0D594-694D-440A-B27F-BD4E4411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8F762-3EBF-4C50-ABDB-8AE32EAB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78E54-7EEF-4888-8485-182C64B2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C1FEC-2691-4B7D-B38C-C38BAF16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BDEA9-E8D1-4CE3-9CF5-A5DCD5B3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58E21-BB0F-4CF0-B4E6-E6D5B14A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C9A35-AF5C-4F1B-AF6A-3A0BFCCE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979EE9-A496-441F-B653-F5676145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3F6-8650-4112-9211-4BF70DB8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0278F6-2283-49B5-BCEC-E07B5FD4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F6DCB3-84BF-4387-B71E-9008AE71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CC776B-FA4D-4A28-A02B-568DC948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1AEE51-73D7-4E4D-B356-31301B72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E0686D-8C68-4BA1-9E57-332FA0C8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2DAEDC-27E9-457B-9C10-3892D9C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0F271C-7E0D-4A41-8DCB-A17D800C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F57117-B5A7-420E-8511-05F5A3B8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59EA7A-6039-4801-A286-8651FFC9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F9A349-4424-4992-8E20-E51134F6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09B-24E9-4A98-BA68-3E3F7C2D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450C23-725B-4053-8913-67841F29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17C88-AD9C-47B9-9CA4-1BD3B43D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C2B54-38A9-4C58-8EE2-1EE06E78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3C3A3-6E38-4EB6-8F9F-1FCC8AD2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41693-1540-46AD-A2C8-AA38DCC7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0CEEA-FC8E-44A5-9C81-008FFF5C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6DC84-F22F-4A43-8842-3CD6E3A7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1A394-D146-4A44-BDD4-FC4CB96B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36630-6A2D-43D6-8E98-CBC773D0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67F58-8150-4C3F-9F1D-DC0FA428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0033-431C-481C-97CD-2F42066D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49E4B-AED5-4384-A2B0-88A32BF9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E487D-E642-41EF-89FA-0E5AB5A4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40ADE-7BB8-4E28-8996-68A226E9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78DD9-9FD4-40FB-BA79-CEA0A15F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4A731-1C2C-493A-A85D-F36625F5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2B637-4494-4EFD-AA6E-18A5B8E5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9E130-D5D8-4F04-A3B7-9C4C72C2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687E9-0106-414E-9D21-E5FB1397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67299-0959-418B-ADE1-ABB1E65C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8320C-92F6-4B96-8FE1-D03522F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1CC3-3081-4B44-B481-55AF3AFC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09497-9BFF-4BE4-B54E-7D9DC909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ED8A5-75E7-4F2E-B5AB-C230EA5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0EFC7-7E6D-433C-B8D6-A87057C5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F10FC-47C2-49FC-9AD5-7E2B3B3E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9CCD2-CA7E-4BBE-8430-965B1241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8B19-527B-48F6-8BD8-D931B0E7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934F-E380-4475-85B4-854A0E6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3380-B440-4E35-86EA-1FC5F5C7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BFAA-DDE9-481B-B160-52290B11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6435-4A01-4A6B-AB56-5F1E95F9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4A3-7572-4F75-BF9E-B946185A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CA42-AB67-46C4-86F6-62482B6D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32BA-D961-450C-B7E0-9DAE6AFD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44C5-AAB7-427E-9B78-8DAC228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F329-053B-4A8F-8C73-243D6AAB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F508-2792-4967-891A-4402FE3F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865B-FBFA-4B92-A7D9-63AE4A05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360C-A8D1-4FEE-967B-E9F81917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65A9-9BFA-4740-AE74-7B5E9F3D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289D3-5B8C-4D03-AE97-6B166A63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C233-3D6F-4729-AD66-C3CFF7F9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B38-7026-471A-A39A-9A34B1C6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8F301-FD97-4F73-8881-9DD34913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5D78-E26A-46D0-B5CD-B00F0AE3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30E7C-FB95-403F-88AC-50ED97C5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0260-A4C3-4596-AC55-0A57AB80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0371-EA9E-4794-B3BF-1802CC6D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7CF85-7F97-43EF-93F8-D131EA55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E659A-10BF-4736-A8D8-03A80615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F44C4-1B67-4745-978E-3A3CD479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2CE52-18E8-40E7-B1CD-8B272DBF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93A47-04C3-415C-924A-6C7B31A8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0F1-9658-4D99-8B97-D99571AF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ADA72-CD15-48E8-9D56-E125A70D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D61D-FE8B-450B-A9F8-B4170870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01783-2C4B-4CCF-A031-00AF7BCE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F02A1-3E1E-4406-9E88-09777A91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D06D7-0CFE-4F6D-AE41-17A1F1A6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178D7-B35D-472B-B5CC-17148797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B5E66-2FE6-46A0-835E-ABCA2468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ACF18-D839-4FE6-897E-4C0FCB1B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F2FC-FCAD-45C7-94FD-FA49236A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F45C3-882A-422C-A732-C076AEEE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1B4-9B12-428D-B252-C7E590E8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ECE80-CC1E-462A-85E6-F6B56F31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CB748-206B-4956-957D-B851ABF3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D91D2-92F3-4E04-A53A-CBCC4C31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65AD2-ECDB-4E62-BCC0-B423DDF3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1BC33-5D40-4858-9670-D0B6825D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7D755-53F0-444B-9313-60E6A84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17503-FE43-4E54-8848-0CD3E424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A3284-5A2E-40EB-BB3C-F70E9B9C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D2781-2498-4A36-873F-542655EA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F4E2B-032D-47E2-ACD4-B2D0D9DC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DCC-DBD3-4A91-A7C5-0D2F1052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DE581-B80C-4AA4-8594-1F48D9C9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F58FF-427F-42A5-9B8E-44D5D2C3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6965B-11EB-4ACA-8B5F-E99EDD5E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09F03-3C65-41B3-B2B6-777726D8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85717-842A-4946-B00F-3936BC93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345B-D370-48E8-B2CB-26A12ACF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FAE6-EFD0-4EA5-BC9D-F14BA3C1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D7D35-40E2-45D7-BD97-239975E4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BCF7-1B34-4493-86B6-2819CF6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3AE58-AACF-4324-93EE-0DFECD5F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84A-A419-444E-B309-0584C08E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E5709-97D7-4966-93F4-12D4BF8E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1F4AA-766E-47AB-BFF8-12B006E5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CEE9E-75C1-46D5-A6BB-755C9FAB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676EF-0847-4B27-B58B-CF0F600D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9ED42-1271-4D14-B537-D3D46AA3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38BDB-C847-4AE6-A66E-FCCD3507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7FEEB-A528-473E-B952-EBE6594A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94D61-92CE-4AB4-9856-D1BD8499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B4955-7A4C-4977-84E7-5B0267B9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8D9E5-DB52-49AC-B841-B985508B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5ED-8321-4B0B-A9E9-33CA4329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FB916-4821-4FF7-9EE4-FD3F7E5C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6E1D6-A676-494A-B2A7-2F0114AC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C9F20-8CDB-42A9-AE8E-67A43D80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F7D2B-6A83-40EE-A9B2-CDE1E4C7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22FED-3D3E-4C3A-91E9-F2138624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C2EAB-ABEF-41BB-B03F-DA63CA31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0CA9B-B4CF-4876-B8BF-6426ADE9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A5F10-8B36-489F-AB55-135ED90D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14498-12B0-4707-B5E4-0EF92844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31949-240D-4BB9-BF45-3423F90B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0FD-1E72-4431-85DC-CE16F269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CEF24-5E79-4207-9B0C-D85826E7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B84A6-AE17-4330-8B84-B63123B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AC452-E795-4F33-9715-23F60706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A16EE-6430-4BD5-B0B2-22D0EBAE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16B0A-BEEF-43A3-B1B0-FCA26A2D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7057A-C748-4D05-922E-6BC908C2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36293-5B10-40A7-AEB3-F79B2671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15303-5BCA-4BD6-9AAE-DBAA31CB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7AC3E-9D05-4DFB-A528-25F6AA89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72CBF-5F6B-4EA7-AD8E-959034F2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2166-0FFC-4649-856C-443A6AE0781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04F8-A574-4594-B6A9-888ED55C7A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F574-3BDF-46AF-9AA6-EB535D49CE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F9CD-19A4-4DC9-9A9A-453EEC2D1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024B-D7E9-4B73-8C3B-6EA703710C3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6C7F-CB1F-430E-B217-4D8BB1B68C8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C619-F137-4AD4-BF43-EF6D6E406A7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DA0A-D1BB-4E20-A8FC-BA813443E95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48DB-FBE8-4762-997B-F05FA826375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4538-FC50-4F4F-BD32-179E11AF61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3D44-5676-45CC-B18B-798C376573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3C00-23ED-46F6-A76D-47AAE1E5F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CC68-01E8-4A81-B723-83CCC237C3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BF4B-8D6B-48DC-99A1-1737E9C64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6489-C1AF-4714-A9E0-91302F1A4E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7B02-26E5-4D42-991F-C1A12419703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642A-3442-413A-9683-02F60C07011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490F-29B8-44EF-A503-E3704CBA737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EC07-B92B-4426-A9DB-B7DA2BA4D21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5CC4-F927-45D3-B06A-FCB37B2446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31E1-1636-4FA8-B5A9-CCE9667376C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94B5-1150-4DFB-BE7C-FBB1E32556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C154-C813-49A2-A1B2-210AD1E6C7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91C4-D5EF-4023-8EA9-9D0172E6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519-74F2-47EF-83D4-62B6EE97C9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8ED4E-36AA-4974-A471-FA8AA2AAA378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E8882-F29B-433C-8A20-604FA3FE87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D649523-B6A6-418F-B569-305E7E82759C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5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F289-A5A7-4CE4-9B29-96E7F016E069}" type="slidenum">
              <a:t>3</a:t>
            </a:fld>
          </a:p>
        </p:txBody>
      </p:sp>
    </p:spTree>
  </p:cSld>
  <p:transition>
    <p:comb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12E8B-C105-4E39-B18A-F2305940910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4777E74-D0E8-470C-82F7-B6DE17E2E2B7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08573-4626-469F-8E36-908790DB76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D50B0B5-556B-4858-91B2-3BF5C0642AA6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FECC-0718-4C6D-A432-1947107254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8587EA5-DA35-4EB3-AEC7-6ED47E03F9AF}" type="datetime1">
              <a:rPr lang="en-US"/>
              <a:t>07/29/26</a:t>
            </a:fld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