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3BB-E38C-4E05-90A2-CE00EE14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9C5-9680-4364-AF39-8615F425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56A-E711-405C-8757-6A726DE4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EC07-B9AD-4E29-813A-F45305A6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955-9F56-4273-B25D-5C1E18FA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438-C732-4B87-9A66-8175BD57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19E-75DF-4CBF-A756-A3F97152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D771-1E4A-40C6-A2F0-D40E0198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E76-A1A0-4F4D-8CF2-FE80C9DB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1A8-59FA-4A13-BE8D-52B1CFD5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7A32-BA1A-40D2-9D0A-80A54EB7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6A5-B06F-4EB9-ADDF-BE725D8A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 fontScale="87000"/>
          </a:bodyPr>
          <a:p>
            <a:pPr marL="141840" indent="-141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07800" indent="-11844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73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62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fld id="{E65C5424-482F-4E63-9B2E-33359D998895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074600"/>
            <a:ext cx="365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9528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066680" y="91440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2362320"/>
            <a:ext cx="60948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04920" y="1676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0440" y="91440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380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16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992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25:04Z</dcterms:created>
  <dc:creator>Brian McBride</dc:creator>
  <dc:description/>
  <dc:language>en-US</dc:language>
  <cp:lastModifiedBy>Brian McBride</cp:lastModifiedBy>
  <dcterms:modified xsi:type="dcterms:W3CDTF">2002-03-24T17:51:18Z</dcterms:modified>
  <cp:revision>2</cp:revision>
  <dc:subject/>
  <dc:title>PowerPoint Presentation</dc:title>
</cp:coreProperties>
</file>