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4EB-916E-4E29-AF4A-0EF95B4A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E54B-FC5D-4CBD-B6CE-4EFC77C7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748-FA4B-4B5B-B634-9CB659DB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9BE-D79C-4A80-AE9F-19BC4C85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D81-785D-4757-8045-3E7BE0E9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CC4-B1FF-482E-8056-BAC62EB1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7AD-7137-44FA-BA60-E31AB272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94A-B779-4867-96AF-CDE36128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271080"/>
            <a:ext cx="58291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5BE-A650-48AB-9469-385FE38C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290-EA8D-4F3E-BDEA-A113DA17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A54-5F18-45E6-A220-7A57286F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8517-61F6-4801-AEBA-BE2F9F98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70000"/>
          </a:bodyPr>
          <a:p>
            <a:pPr marL="148680" indent="-148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220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95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93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2776680"/>
            <a:ext cx="142884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2776680"/>
            <a:ext cx="217152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2776680"/>
            <a:ext cx="142848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B61200B2-1EA0-4A3B-A10D-8057397DFF0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152280"/>
            <a:ext cx="144756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10746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295280"/>
            <a:ext cx="106704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828800" y="685800"/>
            <a:ext cx="8380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362320"/>
            <a:ext cx="60984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066320" y="16765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71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592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2292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990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152388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7840" y="106668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11430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286000"/>
            <a:ext cx="9903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762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4720" y="6858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143000"/>
            <a:ext cx="106704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1676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42280" y="1828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9840" y="236232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24280" y="17524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3480" y="182880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209680"/>
            <a:ext cx="106668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57:51Z</dcterms:created>
  <dc:creator>Brian McBride</dc:creator>
  <dc:description/>
  <dc:language>en-US</dc:language>
  <cp:lastModifiedBy>Brian McBride</cp:lastModifiedBy>
  <dcterms:modified xsi:type="dcterms:W3CDTF">2002-03-24T17:58:18Z</dcterms:modified>
  <cp:revision>1</cp:revision>
  <dc:subject/>
  <dc:title>PowerPoint Presentation</dc:title>
</cp:coreProperties>
</file>