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3FFB-7151-4D18-A5FE-7F20F7DB9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0150-0406-4386-B9F7-7D902D64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06C0-7F6E-4EBC-99FB-3140216D3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E990-2C56-4AD4-9ED3-B6B236F83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13B2-219D-45D4-BC5B-DC33E7BC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CBE3-A3FD-47CC-B814-E3522A91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5842-5FA2-42AD-A496-8F333D97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B68C-9D7C-4303-907A-D80C7566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77C5-543D-40DE-BDE6-30C3C36A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E159-FDEF-4E45-986E-503D1BAD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F815-C33D-471A-BACA-E89D6C48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388B-D8B7-4E76-856D-3CAD03D5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E9B6-B6D8-4A47-B167-0954426C9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3040" y="2149200"/>
            <a:ext cx="6928560" cy="1028880"/>
          </a:xfrm>
          <a:prstGeom prst="bentConnector3">
            <a:avLst>
              <a:gd name="adj1" fmla="val 46443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 flipH="1" flipV="1" rot="10800000">
            <a:off x="4412880" y="3190680"/>
            <a:ext cx="3191760" cy="721440"/>
          </a:xfrm>
          <a:prstGeom prst="bentConnector3">
            <a:avLst>
              <a:gd name="adj1" fmla="val -43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3971520" y="1286640"/>
            <a:ext cx="3685320" cy="86292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6200" y="177948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44320" y="382572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42800" y="9428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95480" y="4351320"/>
            <a:ext cx="7361280" cy="1244520"/>
          </a:xfrm>
          <a:prstGeom prst="rightArrow">
            <a:avLst>
              <a:gd name="adj1" fmla="val 50000"/>
              <a:gd name="adj2" fmla="val 14787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ile"/>
          <p:cNvSpPr/>
          <p:nvPr/>
        </p:nvSpPr>
        <p:spPr>
          <a:xfrm>
            <a:off x="3745080" y="1633680"/>
            <a:ext cx="80928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50" idx="6"/>
            <a:endCxn id="52" idx="6"/>
          </p:cNvCxnSpPr>
          <p:nvPr/>
        </p:nvCxnSpPr>
        <p:spPr>
          <a:xfrm flipH="1" rot="16200000">
            <a:off x="4145040" y="2104200"/>
            <a:ext cx="1033920" cy="1024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7"/>
            <a:endCxn id="54" idx="6"/>
          </p:cNvCxnSpPr>
          <p:nvPr/>
        </p:nvCxnSpPr>
        <p:spPr>
          <a:xfrm flipH="1" rot="16200000">
            <a:off x="4446360" y="1802160"/>
            <a:ext cx="392760" cy="98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File"/>
          <p:cNvSpPr/>
          <p:nvPr/>
        </p:nvSpPr>
        <p:spPr>
          <a:xfrm>
            <a:off x="5137200" y="225900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ile"/>
          <p:cNvSpPr/>
          <p:nvPr/>
        </p:nvSpPr>
        <p:spPr>
          <a:xfrm>
            <a:off x="5173560" y="29005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ile"/>
          <p:cNvSpPr/>
          <p:nvPr/>
        </p:nvSpPr>
        <p:spPr>
          <a:xfrm>
            <a:off x="3730680" y="3511440"/>
            <a:ext cx="11714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5" idx="6"/>
            <a:endCxn id="57" idx="6"/>
          </p:cNvCxnSpPr>
          <p:nvPr/>
        </p:nvCxnSpPr>
        <p:spPr>
          <a:xfrm flipH="1" rot="16200000">
            <a:off x="4221360" y="4073040"/>
            <a:ext cx="1033560" cy="843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59" idx="6"/>
          </p:cNvCxnSpPr>
          <p:nvPr/>
        </p:nvCxnSpPr>
        <p:spPr>
          <a:xfrm flipH="1" rot="16200000">
            <a:off x="4523400" y="3770640"/>
            <a:ext cx="392760" cy="80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File"/>
          <p:cNvSpPr/>
          <p:nvPr/>
        </p:nvSpPr>
        <p:spPr>
          <a:xfrm>
            <a:off x="5122800" y="41371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ile"/>
          <p:cNvSpPr/>
          <p:nvPr/>
        </p:nvSpPr>
        <p:spPr>
          <a:xfrm>
            <a:off x="5159520" y="4778280"/>
            <a:ext cx="8096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ile"/>
          <p:cNvSpPr/>
          <p:nvPr/>
        </p:nvSpPr>
        <p:spPr>
          <a:xfrm>
            <a:off x="2624040" y="78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60" idx="6"/>
            <a:endCxn id="55" idx="8"/>
          </p:cNvCxnSpPr>
          <p:nvPr/>
        </p:nvCxnSpPr>
        <p:spPr>
          <a:xfrm flipH="1" rot="16200000">
            <a:off x="2130840" y="2145960"/>
            <a:ext cx="2496600" cy="702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60" idx="7"/>
            <a:endCxn id="50" idx="8"/>
          </p:cNvCxnSpPr>
          <p:nvPr/>
        </p:nvCxnSpPr>
        <p:spPr>
          <a:xfrm flipH="1" rot="16200000">
            <a:off x="3077280" y="1199880"/>
            <a:ext cx="61848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Document"/>
          <p:cNvSpPr/>
          <p:nvPr/>
        </p:nvSpPr>
        <p:spPr>
          <a:xfrm>
            <a:off x="7305840" y="21337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Document"/>
          <p:cNvSpPr/>
          <p:nvPr/>
        </p:nvSpPr>
        <p:spPr>
          <a:xfrm>
            <a:off x="7310520" y="250344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Document"/>
          <p:cNvSpPr/>
          <p:nvPr/>
        </p:nvSpPr>
        <p:spPr>
          <a:xfrm>
            <a:off x="7316640" y="2870280"/>
            <a:ext cx="190800" cy="25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54" idx="7"/>
            <a:endCxn id="65" idx="8"/>
          </p:cNvCxnSpPr>
          <p:nvPr/>
        </p:nvCxnSpPr>
        <p:spPr>
          <a:xfrm>
            <a:off x="5946480" y="2491920"/>
            <a:ext cx="1370520" cy="50580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4" idx="8"/>
            <a:endCxn id="64" idx="8"/>
          </p:cNvCxnSpPr>
          <p:nvPr/>
        </p:nvCxnSpPr>
        <p:spPr>
          <a:xfrm>
            <a:off x="5946840" y="2492280"/>
            <a:ext cx="1364400" cy="140400"/>
          </a:xfrm>
          <a:prstGeom prst="bentConnector3">
            <a:avLst>
              <a:gd name="adj1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4" idx="9"/>
            <a:endCxn id="63" idx="8"/>
          </p:cNvCxnSpPr>
          <p:nvPr/>
        </p:nvCxnSpPr>
        <p:spPr>
          <a:xfrm flipV="1">
            <a:off x="5946480" y="2261520"/>
            <a:ext cx="1359720" cy="230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Document"/>
          <p:cNvSpPr/>
          <p:nvPr/>
        </p:nvSpPr>
        <p:spPr>
          <a:xfrm>
            <a:off x="7304040" y="33559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308720" y="3726000"/>
            <a:ext cx="19080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Document"/>
          <p:cNvSpPr/>
          <p:nvPr/>
        </p:nvSpPr>
        <p:spPr>
          <a:xfrm>
            <a:off x="7315200" y="4092480"/>
            <a:ext cx="190440" cy="254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2" idx="7"/>
            <a:endCxn id="71" idx="8"/>
          </p:cNvCxnSpPr>
          <p:nvPr/>
        </p:nvCxnSpPr>
        <p:spPr>
          <a:xfrm>
            <a:off x="5983200" y="3133800"/>
            <a:ext cx="1332720" cy="108648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52" idx="8"/>
            <a:endCxn id="70" idx="8"/>
          </p:cNvCxnSpPr>
          <p:nvPr/>
        </p:nvCxnSpPr>
        <p:spPr>
          <a:xfrm>
            <a:off x="5983200" y="3133800"/>
            <a:ext cx="1326240" cy="72144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2" idx="9"/>
            <a:endCxn id="69" idx="8"/>
          </p:cNvCxnSpPr>
          <p:nvPr/>
        </p:nvCxnSpPr>
        <p:spPr>
          <a:xfrm>
            <a:off x="5982840" y="3133800"/>
            <a:ext cx="1321200" cy="3513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ile"/>
          <p:cNvSpPr/>
          <p:nvPr/>
        </p:nvSpPr>
        <p:spPr>
          <a:xfrm>
            <a:off x="3745080" y="1633680"/>
            <a:ext cx="80928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5" idx="6"/>
            <a:endCxn id="77" idx="6"/>
          </p:cNvCxnSpPr>
          <p:nvPr/>
        </p:nvCxnSpPr>
        <p:spPr>
          <a:xfrm flipH="1" rot="16200000">
            <a:off x="4145040" y="2104200"/>
            <a:ext cx="1033920" cy="1024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5" idx="7"/>
            <a:endCxn id="79" idx="6"/>
          </p:cNvCxnSpPr>
          <p:nvPr/>
        </p:nvCxnSpPr>
        <p:spPr>
          <a:xfrm flipH="1" rot="16200000">
            <a:off x="4446360" y="1802160"/>
            <a:ext cx="392760" cy="98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File"/>
          <p:cNvSpPr/>
          <p:nvPr/>
        </p:nvSpPr>
        <p:spPr>
          <a:xfrm>
            <a:off x="5137200" y="225900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ile"/>
          <p:cNvSpPr/>
          <p:nvPr/>
        </p:nvSpPr>
        <p:spPr>
          <a:xfrm>
            <a:off x="5173560" y="29005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ile"/>
          <p:cNvSpPr/>
          <p:nvPr/>
        </p:nvSpPr>
        <p:spPr>
          <a:xfrm>
            <a:off x="3730680" y="3511440"/>
            <a:ext cx="11714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80" idx="6"/>
            <a:endCxn id="82" idx="6"/>
          </p:cNvCxnSpPr>
          <p:nvPr/>
        </p:nvCxnSpPr>
        <p:spPr>
          <a:xfrm flipH="1" rot="16200000">
            <a:off x="3692160" y="4601160"/>
            <a:ext cx="205020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80" idx="7"/>
            <a:endCxn id="84" idx="6"/>
          </p:cNvCxnSpPr>
          <p:nvPr/>
        </p:nvCxnSpPr>
        <p:spPr>
          <a:xfrm flipH="1" rot="16200000">
            <a:off x="4523400" y="3770640"/>
            <a:ext cx="392760" cy="80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File"/>
          <p:cNvSpPr/>
          <p:nvPr/>
        </p:nvSpPr>
        <p:spPr>
          <a:xfrm>
            <a:off x="5122800" y="41371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ile"/>
          <p:cNvSpPr/>
          <p:nvPr/>
        </p:nvSpPr>
        <p:spPr>
          <a:xfrm>
            <a:off x="5119560" y="5794200"/>
            <a:ext cx="8096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ile"/>
          <p:cNvSpPr/>
          <p:nvPr/>
        </p:nvSpPr>
        <p:spPr>
          <a:xfrm>
            <a:off x="2624040" y="78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5" idx="6"/>
            <a:endCxn id="80" idx="8"/>
          </p:cNvCxnSpPr>
          <p:nvPr/>
        </p:nvCxnSpPr>
        <p:spPr>
          <a:xfrm flipH="1" rot="16200000">
            <a:off x="2130840" y="2145960"/>
            <a:ext cx="2496600" cy="702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5" idx="7"/>
            <a:endCxn id="75" idx="8"/>
          </p:cNvCxnSpPr>
          <p:nvPr/>
        </p:nvCxnSpPr>
        <p:spPr>
          <a:xfrm flipH="1" rot="16200000">
            <a:off x="3077280" y="1199880"/>
            <a:ext cx="61848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Document"/>
          <p:cNvSpPr/>
          <p:nvPr/>
        </p:nvSpPr>
        <p:spPr>
          <a:xfrm>
            <a:off x="7305840" y="21337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Document"/>
          <p:cNvSpPr/>
          <p:nvPr/>
        </p:nvSpPr>
        <p:spPr>
          <a:xfrm>
            <a:off x="7310520" y="250344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Document"/>
          <p:cNvSpPr/>
          <p:nvPr/>
        </p:nvSpPr>
        <p:spPr>
          <a:xfrm>
            <a:off x="7316640" y="2870280"/>
            <a:ext cx="190800" cy="25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79" idx="7"/>
            <a:endCxn id="90" idx="8"/>
          </p:cNvCxnSpPr>
          <p:nvPr/>
        </p:nvCxnSpPr>
        <p:spPr>
          <a:xfrm>
            <a:off x="5946480" y="2491920"/>
            <a:ext cx="1370520" cy="50580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9" idx="8"/>
            <a:endCxn id="89" idx="8"/>
          </p:cNvCxnSpPr>
          <p:nvPr/>
        </p:nvCxnSpPr>
        <p:spPr>
          <a:xfrm>
            <a:off x="5946840" y="2492280"/>
            <a:ext cx="1364400" cy="140400"/>
          </a:xfrm>
          <a:prstGeom prst="bentConnector3">
            <a:avLst>
              <a:gd name="adj1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9" idx="9"/>
            <a:endCxn id="88" idx="8"/>
          </p:cNvCxnSpPr>
          <p:nvPr/>
        </p:nvCxnSpPr>
        <p:spPr>
          <a:xfrm flipV="1">
            <a:off x="5946480" y="2261520"/>
            <a:ext cx="1359720" cy="230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Document"/>
          <p:cNvSpPr/>
          <p:nvPr/>
        </p:nvSpPr>
        <p:spPr>
          <a:xfrm>
            <a:off x="7304040" y="33559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7308720" y="3726000"/>
            <a:ext cx="19080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Document"/>
          <p:cNvSpPr/>
          <p:nvPr/>
        </p:nvSpPr>
        <p:spPr>
          <a:xfrm>
            <a:off x="7315200" y="4092480"/>
            <a:ext cx="190440" cy="254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77" idx="7"/>
            <a:endCxn id="96" idx="8"/>
          </p:cNvCxnSpPr>
          <p:nvPr/>
        </p:nvCxnSpPr>
        <p:spPr>
          <a:xfrm>
            <a:off x="5983200" y="3133800"/>
            <a:ext cx="1332720" cy="108648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7" idx="8"/>
            <a:endCxn id="95" idx="8"/>
          </p:cNvCxnSpPr>
          <p:nvPr/>
        </p:nvCxnSpPr>
        <p:spPr>
          <a:xfrm>
            <a:off x="5983200" y="3133800"/>
            <a:ext cx="1326240" cy="72144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77" idx="9"/>
            <a:endCxn id="94" idx="8"/>
          </p:cNvCxnSpPr>
          <p:nvPr/>
        </p:nvCxnSpPr>
        <p:spPr>
          <a:xfrm>
            <a:off x="5982840" y="3133800"/>
            <a:ext cx="1321200" cy="3513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File"/>
          <p:cNvSpPr/>
          <p:nvPr/>
        </p:nvSpPr>
        <p:spPr>
          <a:xfrm>
            <a:off x="6512040" y="4780080"/>
            <a:ext cx="873000" cy="519120"/>
          </a:xfrm>
          <a:prstGeom prst="pi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8680320" y="4654440"/>
            <a:ext cx="190800" cy="25560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Document"/>
          <p:cNvSpPr/>
          <p:nvPr/>
        </p:nvSpPr>
        <p:spPr>
          <a:xfrm>
            <a:off x="8685360" y="5024520"/>
            <a:ext cx="190440" cy="25560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Document"/>
          <p:cNvSpPr/>
          <p:nvPr/>
        </p:nvSpPr>
        <p:spPr>
          <a:xfrm>
            <a:off x="8691480" y="5391000"/>
            <a:ext cx="190440" cy="25416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0" idx="6"/>
            <a:endCxn id="103" idx="8"/>
          </p:cNvCxnSpPr>
          <p:nvPr/>
        </p:nvCxnSpPr>
        <p:spPr>
          <a:xfrm>
            <a:off x="7384680" y="5040000"/>
            <a:ext cx="1307160" cy="478440"/>
          </a:xfrm>
          <a:prstGeom prst="bentConnector3">
            <a:avLst>
              <a:gd name="adj1" fmla="val 49917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5" name=""/>
          <p:cNvCxnSpPr>
            <a:stCxn id="100" idx="7"/>
            <a:endCxn id="102" idx="8"/>
          </p:cNvCxnSpPr>
          <p:nvPr/>
        </p:nvCxnSpPr>
        <p:spPr>
          <a:xfrm>
            <a:off x="7385040" y="5040000"/>
            <a:ext cx="1301040" cy="113400"/>
          </a:xfrm>
          <a:prstGeom prst="bentConnector3">
            <a:avLst>
              <a:gd name="adj1" fmla="val 49930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6" name=""/>
          <p:cNvCxnSpPr>
            <a:stCxn id="100" idx="8"/>
            <a:endCxn id="101" idx="8"/>
          </p:cNvCxnSpPr>
          <p:nvPr/>
        </p:nvCxnSpPr>
        <p:spPr>
          <a:xfrm flipV="1">
            <a:off x="7385040" y="4782240"/>
            <a:ext cx="1296000" cy="258120"/>
          </a:xfrm>
          <a:prstGeom prst="bentConnector3">
            <a:avLst>
              <a:gd name="adj1" fmla="val 49986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7" name=""/>
          <p:cNvCxnSpPr>
            <a:stCxn id="84" idx="7"/>
            <a:endCxn id="100" idx="9"/>
          </p:cNvCxnSpPr>
          <p:nvPr/>
        </p:nvCxnSpPr>
        <p:spPr>
          <a:xfrm flipH="1" rot="16200000">
            <a:off x="5801400" y="4329360"/>
            <a:ext cx="437400" cy="98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 rot="5400000">
            <a:off x="5204880" y="3021120"/>
            <a:ext cx="2535480" cy="811080"/>
          </a:xfrm>
          <a:custGeom>
            <a:avLst/>
            <a:gdLst>
              <a:gd name="textAreaLeft" fmla="*/ 0 w 2535480"/>
              <a:gd name="textAreaRight" fmla="*/ 2535840 w 2535480"/>
              <a:gd name="textAreaTop" fmla="*/ 0 h 811080"/>
              <a:gd name="textAreaBottom" fmla="*/ 811440 h 81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86" stAng="10800000" swAng="5400000"/>
                <a:lnTo>
                  <a:pt x="17477" y="2874"/>
                </a:lnTo>
                <a:lnTo>
                  <a:pt x="17477" y="0"/>
                </a:lnTo>
                <a:lnTo>
                  <a:pt x="21600" y="6079"/>
                </a:lnTo>
                <a:lnTo>
                  <a:pt x="17477" y="12158"/>
                </a:lnTo>
                <a:lnTo>
                  <a:pt x="17477" y="9284"/>
                </a:lnTo>
                <a:lnTo>
                  <a:pt x="12427" y="9284"/>
                </a:lnTo>
                <a:arcTo wR="6017" hR="2876" stAng="16200000" swAng="-5400000"/>
                <a:lnTo>
                  <a:pt x="6410" y="2160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95480" y="3798720"/>
            <a:ext cx="7361280" cy="1244880"/>
          </a:xfrm>
          <a:prstGeom prst="rightArrow">
            <a:avLst>
              <a:gd name="adj1" fmla="val 50000"/>
              <a:gd name="adj2" fmla="val 14783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06640" y="2792520"/>
            <a:ext cx="719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38120" y="1917720"/>
            <a:ext cx="1030320" cy="528480"/>
          </a:xfrm>
          <a:prstGeom prst="wedgeRectCallout">
            <a:avLst>
              <a:gd name="adj1" fmla="val -73111"/>
              <a:gd name="adj2" fmla="val 116365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52920" y="1889280"/>
            <a:ext cx="1030320" cy="528480"/>
          </a:xfrm>
          <a:prstGeom prst="wedgeRectCallout">
            <a:avLst>
              <a:gd name="adj1" fmla="val -92990"/>
              <a:gd name="adj2" fmla="val 12147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11" idx="4"/>
          </p:cNvCxnSpPr>
          <p:nvPr/>
        </p:nvCxnSpPr>
        <p:spPr>
          <a:xfrm flipH="1" flipV="1" rot="5400000">
            <a:off x="4209840" y="-1308600"/>
            <a:ext cx="996120" cy="7215840"/>
          </a:xfrm>
          <a:prstGeom prst="bentConnector4">
            <a:avLst>
              <a:gd name="adj1" fmla="val -144"/>
              <a:gd name="adj2" fmla="val 54363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14" name=""/>
          <p:cNvSpPr/>
          <p:nvPr/>
        </p:nvSpPr>
        <p:spPr>
          <a:xfrm>
            <a:off x="5027760" y="806400"/>
            <a:ext cx="1030320" cy="528840"/>
          </a:xfrm>
          <a:prstGeom prst="wedgeRectCallout">
            <a:avLst>
              <a:gd name="adj1" fmla="val -49074"/>
              <a:gd name="adj2" fmla="val 14068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p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88040" y="1976400"/>
            <a:ext cx="1030320" cy="528840"/>
          </a:xfrm>
          <a:prstGeom prst="wedgeRectCallout">
            <a:avLst>
              <a:gd name="adj1" fmla="val -48152"/>
              <a:gd name="adj2" fmla="val 10435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4040" y="816120"/>
            <a:ext cx="1030320" cy="528480"/>
          </a:xfrm>
          <a:prstGeom prst="wedgeRectCallout">
            <a:avLst>
              <a:gd name="adj1" fmla="val -73111"/>
              <a:gd name="adj2" fmla="val 14068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74800" y="27846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32200" y="28353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48400" y="28335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02480" y="28335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72400" y="28209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ollins-Sussman</cp:lastModifiedBy>
  <dcterms:modified xsi:type="dcterms:W3CDTF">2002-12-08T23:57:32Z</dcterms:modified>
  <cp:revision>39</cp:revision>
  <dc:subject/>
  <dc:title>PowerPoint Presentation</dc:title>
</cp:coreProperties>
</file>