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E299F-C512-40ED-B3C2-418E3634A2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9C188-4BDF-4697-A797-9F0E8B14D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149B3-2114-4330-9BD2-87EBF4736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30435-07F8-49A2-8927-85270CCF6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151CE-4302-498C-8087-4917135BC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B5F1A-41F2-4E56-9D2F-5AED881BF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C33A0-EB9F-4B4C-9DD6-F0C2D1B40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2809F-50FF-4D53-B899-63D626DE3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67BEA-B4D4-45D7-88D3-BFFCB26C7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32F1F-C7DF-4EFB-907C-60BFD77E4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422A5-EE53-47DB-9C40-ADED2A106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EFCF7-62B8-42FD-AE65-06C6FD1FD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6CBAE-C791-479C-84CA-DC3FFB046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EC0CF-F462-4690-8600-5B76E8AAA5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376360" y="1471680"/>
            <a:ext cx="4572000" cy="3429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941640" y="14716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043600" y="2919240"/>
            <a:ext cx="741240" cy="89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452040" y="3056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474520" y="326880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27640" y="37479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774880" y="37339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862600" y="37339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54440" y="2944800"/>
            <a:ext cx="47880" cy="843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j0150663" descr=""/>
          <p:cNvPicPr/>
          <p:nvPr/>
        </p:nvPicPr>
        <p:blipFill>
          <a:blip r:embed="rId1"/>
          <a:stretch/>
        </p:blipFill>
        <p:spPr>
          <a:xfrm>
            <a:off x="4413240" y="2139840"/>
            <a:ext cx="422280" cy="473040"/>
          </a:xfrm>
          <a:prstGeom prst="rect">
            <a:avLst/>
          </a:prstGeom>
          <a:ln w="0">
            <a:noFill/>
          </a:ln>
        </p:spPr>
      </p:pic>
      <p:pic>
        <p:nvPicPr>
          <p:cNvPr id="63" name="j0150663" descr=""/>
          <p:cNvPicPr/>
          <p:nvPr/>
        </p:nvPicPr>
        <p:blipFill>
          <a:blip r:embed="rId2"/>
          <a:stretch/>
        </p:blipFill>
        <p:spPr>
          <a:xfrm>
            <a:off x="6014880" y="4062240"/>
            <a:ext cx="422280" cy="473400"/>
          </a:xfrm>
          <a:prstGeom prst="rect">
            <a:avLst/>
          </a:prstGeom>
          <a:ln w="0">
            <a:noFill/>
          </a:ln>
        </p:spPr>
      </p:pic>
      <p:pic>
        <p:nvPicPr>
          <p:cNvPr id="64" name="j0150663" descr=""/>
          <p:cNvPicPr/>
          <p:nvPr/>
        </p:nvPicPr>
        <p:blipFill>
          <a:blip r:embed="rId3"/>
          <a:stretch/>
        </p:blipFill>
        <p:spPr>
          <a:xfrm>
            <a:off x="4599000" y="4083120"/>
            <a:ext cx="422280" cy="473040"/>
          </a:xfrm>
          <a:prstGeom prst="rect">
            <a:avLst/>
          </a:prstGeom>
          <a:ln w="0">
            <a:noFill/>
          </a:ln>
        </p:spPr>
      </p:pic>
      <p:pic>
        <p:nvPicPr>
          <p:cNvPr id="65" name="j0150663" descr=""/>
          <p:cNvPicPr/>
          <p:nvPr/>
        </p:nvPicPr>
        <p:blipFill>
          <a:blip r:embed="rId4"/>
          <a:stretch/>
        </p:blipFill>
        <p:spPr>
          <a:xfrm>
            <a:off x="2913120" y="4068720"/>
            <a:ext cx="422280" cy="4730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 flipV="1">
            <a:off x="3527280" y="2933280"/>
            <a:ext cx="628920" cy="94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33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008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9041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842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926640" y="6342120"/>
            <a:ext cx="263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oe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0450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9405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111280" y="6330960"/>
            <a:ext cx="366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ne accidentally overwrites Joe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33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06056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33440" y="2936880"/>
            <a:ext cx="376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oe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008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9041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016240" y="2949480"/>
            <a:ext cx="355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Joe edits, Jane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842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96360" y="6351480"/>
            <a:ext cx="381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oe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0450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9405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738680" y="6354720"/>
            <a:ext cx="439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Jane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 flipV="1">
            <a:off x="134316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 flipV="1">
            <a:off x="1071720" y="1409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33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07208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008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9041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842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27360" y="6342120"/>
            <a:ext cx="274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ne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0450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9405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466240" y="6330960"/>
            <a:ext cx="271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oe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’  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33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68360" y="2960640"/>
            <a:ext cx="365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oe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008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9041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842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0450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9405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40" idx="6"/>
            <a:endCxn id="239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"/>
          <p:cNvCxnSpPr>
            <a:stCxn id="240" idx="7"/>
            <a:endCxn id="238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3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9" name=""/>
          <p:cNvCxnSpPr>
            <a:stCxn id="238" idx="7"/>
            <a:endCxn id="245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0" name=""/>
          <p:cNvCxnSpPr>
            <a:stCxn id="238" idx="8"/>
            <a:endCxn id="244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1" name=""/>
          <p:cNvCxnSpPr>
            <a:stCxn id="238" idx="9"/>
            <a:endCxn id="243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52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8" name=""/>
          <p:cNvCxnSpPr>
            <a:endCxn id="254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9" name=""/>
          <p:cNvCxnSpPr>
            <a:endCxn id="253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0" name=""/>
          <p:cNvCxnSpPr>
            <a:endCxn id="252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1" name=""/>
          <p:cNvGrpSpPr/>
          <p:nvPr/>
        </p:nvGrpSpPr>
        <p:grpSpPr>
          <a:xfrm>
            <a:off x="4100400" y="2890800"/>
            <a:ext cx="561600" cy="1084320"/>
            <a:chOff x="4100400" y="2890800"/>
            <a:chExt cx="561600" cy="1084320"/>
          </a:xfrm>
        </p:grpSpPr>
        <p:sp>
          <p:nvSpPr>
            <p:cNvPr id="262" name="File"/>
            <p:cNvSpPr/>
            <p:nvPr/>
          </p:nvSpPr>
          <p:spPr>
            <a:xfrm>
              <a:off x="4100400" y="2890800"/>
              <a:ext cx="198360" cy="1144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File"/>
            <p:cNvSpPr/>
            <p:nvPr/>
          </p:nvSpPr>
          <p:spPr>
            <a:xfrm>
              <a:off x="4322520" y="3032280"/>
              <a:ext cx="196560" cy="11412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File"/>
            <p:cNvSpPr/>
            <p:nvPr/>
          </p:nvSpPr>
          <p:spPr>
            <a:xfrm>
              <a:off x="4323960" y="3699000"/>
              <a:ext cx="198000" cy="11412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62" idx="6"/>
              <a:endCxn id="264" idx="6"/>
            </p:cNvCxnSpPr>
            <p:nvPr/>
          </p:nvCxnSpPr>
          <p:spPr>
            <a:xfrm flipH="1" rot="16200000">
              <a:off x="3884760" y="3317760"/>
              <a:ext cx="751320" cy="125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62" idx="7"/>
              <a:endCxn id="263" idx="6"/>
            </p:cNvCxnSpPr>
            <p:nvPr/>
          </p:nvCxnSpPr>
          <p:spPr>
            <a:xfrm flipH="1" rot="16200000">
              <a:off x="4217400" y="2985120"/>
              <a:ext cx="84600" cy="124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7" name="Document"/>
            <p:cNvSpPr/>
            <p:nvPr/>
          </p:nvSpPr>
          <p:spPr>
            <a:xfrm>
              <a:off x="4555800" y="3164040"/>
              <a:ext cx="99720" cy="134640"/>
            </a:xfrm>
            <a:prstGeom prst="pi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Document"/>
            <p:cNvSpPr/>
            <p:nvPr/>
          </p:nvSpPr>
          <p:spPr>
            <a:xfrm>
              <a:off x="4559040" y="3359160"/>
              <a:ext cx="99720" cy="133200"/>
            </a:xfrm>
            <a:prstGeom prst="pi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Document"/>
            <p:cNvSpPr/>
            <p:nvPr/>
          </p:nvSpPr>
          <p:spPr>
            <a:xfrm>
              <a:off x="4562280" y="3551400"/>
              <a:ext cx="99720" cy="134640"/>
            </a:xfrm>
            <a:prstGeom prst="pi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0" name=""/>
            <p:cNvCxnSpPr>
              <a:stCxn id="263" idx="7"/>
              <a:endCxn id="269" idx="8"/>
            </p:cNvCxnSpPr>
            <p:nvPr/>
          </p:nvCxnSpPr>
          <p:spPr>
            <a:xfrm flipH="1" rot="16200000">
              <a:off x="4255560" y="3311280"/>
              <a:ext cx="472320" cy="1418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1" name=""/>
            <p:cNvCxnSpPr>
              <a:stCxn id="263" idx="8"/>
              <a:endCxn id="268" idx="8"/>
            </p:cNvCxnSpPr>
            <p:nvPr/>
          </p:nvCxnSpPr>
          <p:spPr>
            <a:xfrm flipH="1" rot="16200000">
              <a:off x="4349160" y="3216960"/>
              <a:ext cx="280080" cy="1386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2" name=""/>
            <p:cNvCxnSpPr>
              <a:stCxn id="263" idx="9"/>
              <a:endCxn id="267" idx="8"/>
            </p:cNvCxnSpPr>
            <p:nvPr/>
          </p:nvCxnSpPr>
          <p:spPr>
            <a:xfrm flipH="1" rot="16200000">
              <a:off x="4445280" y="3121560"/>
              <a:ext cx="86400" cy="1353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3" name="Document"/>
            <p:cNvSpPr/>
            <p:nvPr/>
          </p:nvSpPr>
          <p:spPr>
            <a:xfrm>
              <a:off x="4554360" y="3841920"/>
              <a:ext cx="101160" cy="133200"/>
            </a:xfrm>
            <a:prstGeom prst="pi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endCxn id="273" idx="8"/>
            </p:cNvCxnSpPr>
            <p:nvPr/>
          </p:nvCxnSpPr>
          <p:spPr>
            <a:xfrm flipH="1" rot="16200000">
              <a:off x="4442040" y="3797280"/>
              <a:ext cx="86400" cy="137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5" name=""/>
          <p:cNvGrpSpPr/>
          <p:nvPr/>
        </p:nvGrpSpPr>
        <p:grpSpPr>
          <a:xfrm>
            <a:off x="4846680" y="2900520"/>
            <a:ext cx="561960" cy="1471320"/>
            <a:chOff x="4846680" y="2900520"/>
            <a:chExt cx="561960" cy="1471320"/>
          </a:xfrm>
        </p:grpSpPr>
        <p:sp>
          <p:nvSpPr>
            <p:cNvPr id="276" name="File"/>
            <p:cNvSpPr/>
            <p:nvPr/>
          </p:nvSpPr>
          <p:spPr>
            <a:xfrm>
              <a:off x="4846680" y="2900520"/>
              <a:ext cx="198000" cy="11412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File"/>
            <p:cNvSpPr/>
            <p:nvPr/>
          </p:nvSpPr>
          <p:spPr>
            <a:xfrm>
              <a:off x="5068080" y="3041280"/>
              <a:ext cx="198000" cy="11412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File"/>
            <p:cNvSpPr/>
            <p:nvPr/>
          </p:nvSpPr>
          <p:spPr>
            <a:xfrm>
              <a:off x="5070600" y="3708000"/>
              <a:ext cx="198000" cy="11412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6" idx="6"/>
              <a:endCxn id="278" idx="6"/>
            </p:cNvCxnSpPr>
            <p:nvPr/>
          </p:nvCxnSpPr>
          <p:spPr>
            <a:xfrm flipH="1" rot="16200000">
              <a:off x="4632840" y="3327120"/>
              <a:ext cx="750960" cy="125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6" idx="7"/>
              <a:endCxn id="277" idx="6"/>
            </p:cNvCxnSpPr>
            <p:nvPr/>
          </p:nvCxnSpPr>
          <p:spPr>
            <a:xfrm flipH="1" rot="16200000">
              <a:off x="4964760" y="2994840"/>
              <a:ext cx="84600" cy="1231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1" name="Document"/>
            <p:cNvSpPr/>
            <p:nvPr/>
          </p:nvSpPr>
          <p:spPr>
            <a:xfrm>
              <a:off x="5302440" y="3174120"/>
              <a:ext cx="100080" cy="133920"/>
            </a:xfrm>
            <a:prstGeom prst="pi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Document"/>
            <p:cNvSpPr/>
            <p:nvPr/>
          </p:nvSpPr>
          <p:spPr>
            <a:xfrm>
              <a:off x="5304960" y="3368880"/>
              <a:ext cx="100080" cy="133920"/>
            </a:xfrm>
            <a:prstGeom prst="pi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5308560" y="3561120"/>
              <a:ext cx="100080" cy="133920"/>
            </a:xfrm>
            <a:prstGeom prst="pi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4" name=""/>
            <p:cNvCxnSpPr>
              <a:stCxn id="277" idx="7"/>
              <a:endCxn id="283" idx="8"/>
            </p:cNvCxnSpPr>
            <p:nvPr/>
          </p:nvCxnSpPr>
          <p:spPr>
            <a:xfrm flipH="1" rot="16200000">
              <a:off x="5000760" y="3320640"/>
              <a:ext cx="473400" cy="142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5" name=""/>
            <p:cNvCxnSpPr>
              <a:stCxn id="277" idx="8"/>
              <a:endCxn id="282" idx="8"/>
            </p:cNvCxnSpPr>
            <p:nvPr/>
          </p:nvCxnSpPr>
          <p:spPr>
            <a:xfrm flipH="1" rot="16200000">
              <a:off x="5095440" y="3226320"/>
              <a:ext cx="280800" cy="1386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stCxn id="277" idx="9"/>
              <a:endCxn id="281" idx="8"/>
            </p:cNvCxnSpPr>
            <p:nvPr/>
          </p:nvCxnSpPr>
          <p:spPr>
            <a:xfrm flipH="1" rot="16200000">
              <a:off x="5192280" y="3130200"/>
              <a:ext cx="86400" cy="136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7" name="Document"/>
            <p:cNvSpPr/>
            <p:nvPr/>
          </p:nvSpPr>
          <p:spPr>
            <a:xfrm>
              <a:off x="5301360" y="3851280"/>
              <a:ext cx="100080" cy="133920"/>
            </a:xfrm>
            <a:prstGeom prst="pi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Document"/>
            <p:cNvSpPr/>
            <p:nvPr/>
          </p:nvSpPr>
          <p:spPr>
            <a:xfrm>
              <a:off x="5303880" y="4045680"/>
              <a:ext cx="100080" cy="133920"/>
            </a:xfrm>
            <a:prstGeom prst="pi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Document"/>
            <p:cNvSpPr/>
            <p:nvPr/>
          </p:nvSpPr>
          <p:spPr>
            <a:xfrm>
              <a:off x="5307120" y="4237920"/>
              <a:ext cx="100080" cy="133920"/>
            </a:xfrm>
            <a:prstGeom prst="pi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0" name=""/>
            <p:cNvCxnSpPr>
              <a:endCxn id="289" idx="8"/>
            </p:cNvCxnSpPr>
            <p:nvPr/>
          </p:nvCxnSpPr>
          <p:spPr>
            <a:xfrm flipH="1" rot="16200000">
              <a:off x="4999320" y="3997800"/>
              <a:ext cx="473400" cy="142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1" name=""/>
            <p:cNvCxnSpPr>
              <a:endCxn id="288" idx="8"/>
            </p:cNvCxnSpPr>
            <p:nvPr/>
          </p:nvCxnSpPr>
          <p:spPr>
            <a:xfrm flipH="1" rot="16200000">
              <a:off x="5094000" y="3903480"/>
              <a:ext cx="280800" cy="1386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endCxn id="287" idx="8"/>
            </p:cNvCxnSpPr>
            <p:nvPr/>
          </p:nvCxnSpPr>
          <p:spPr>
            <a:xfrm flipH="1" rot="16200000">
              <a:off x="5190840" y="3807360"/>
              <a:ext cx="86400" cy="136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93" name=""/>
          <p:cNvGrpSpPr/>
          <p:nvPr/>
        </p:nvGrpSpPr>
        <p:grpSpPr>
          <a:xfrm>
            <a:off x="3408480" y="2889360"/>
            <a:ext cx="561960" cy="795240"/>
            <a:chOff x="3408480" y="2889360"/>
            <a:chExt cx="561960" cy="795240"/>
          </a:xfrm>
        </p:grpSpPr>
        <p:sp>
          <p:nvSpPr>
            <p:cNvPr id="294" name="File"/>
            <p:cNvSpPr/>
            <p:nvPr/>
          </p:nvSpPr>
          <p:spPr>
            <a:xfrm>
              <a:off x="3408480" y="2889360"/>
              <a:ext cx="198360" cy="11412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File"/>
            <p:cNvSpPr/>
            <p:nvPr/>
          </p:nvSpPr>
          <p:spPr>
            <a:xfrm>
              <a:off x="3630960" y="3030480"/>
              <a:ext cx="196560" cy="1144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6" name=""/>
            <p:cNvCxnSpPr>
              <a:stCxn id="294" idx="6"/>
              <a:endCxn id="295" idx="6"/>
            </p:cNvCxnSpPr>
            <p:nvPr/>
          </p:nvCxnSpPr>
          <p:spPr>
            <a:xfrm flipH="1" rot="16200000">
              <a:off x="3526920" y="2983320"/>
              <a:ext cx="84960" cy="1245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7" name="Document"/>
            <p:cNvSpPr/>
            <p:nvPr/>
          </p:nvSpPr>
          <p:spPr>
            <a:xfrm>
              <a:off x="3864240" y="3162240"/>
              <a:ext cx="100080" cy="135000"/>
            </a:xfrm>
            <a:prstGeom prst="pi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Document"/>
            <p:cNvSpPr/>
            <p:nvPr/>
          </p:nvSpPr>
          <p:spPr>
            <a:xfrm>
              <a:off x="3867480" y="3357720"/>
              <a:ext cx="99720" cy="133200"/>
            </a:xfrm>
            <a:prstGeom prst="pi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Document"/>
            <p:cNvSpPr/>
            <p:nvPr/>
          </p:nvSpPr>
          <p:spPr>
            <a:xfrm>
              <a:off x="3870360" y="3549600"/>
              <a:ext cx="100080" cy="135000"/>
            </a:xfrm>
            <a:prstGeom prst="pi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00" name=""/>
            <p:cNvCxnSpPr>
              <a:stCxn id="295" idx="7"/>
              <a:endCxn id="299" idx="8"/>
            </p:cNvCxnSpPr>
            <p:nvPr/>
          </p:nvCxnSpPr>
          <p:spPr>
            <a:xfrm flipH="1" rot="16200000">
              <a:off x="3564000" y="3309480"/>
              <a:ext cx="471960" cy="1418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01" name=""/>
            <p:cNvCxnSpPr>
              <a:stCxn id="295" idx="8"/>
              <a:endCxn id="298" idx="8"/>
            </p:cNvCxnSpPr>
            <p:nvPr/>
          </p:nvCxnSpPr>
          <p:spPr>
            <a:xfrm flipH="1" rot="16200000">
              <a:off x="3658680" y="3215160"/>
              <a:ext cx="280080" cy="138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02" name=""/>
            <p:cNvCxnSpPr>
              <a:stCxn id="295" idx="9"/>
              <a:endCxn id="297" idx="8"/>
            </p:cNvCxnSpPr>
            <p:nvPr/>
          </p:nvCxnSpPr>
          <p:spPr>
            <a:xfrm flipH="1" rot="16200000">
              <a:off x="3753000" y="3120120"/>
              <a:ext cx="86400" cy="1357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303" name="File"/>
          <p:cNvSpPr/>
          <p:nvPr/>
        </p:nvSpPr>
        <p:spPr>
          <a:xfrm>
            <a:off x="2827440" y="2889360"/>
            <a:ext cx="198360" cy="1141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736720" y="2457360"/>
            <a:ext cx="3326040" cy="339840"/>
          </a:xfrm>
          <a:prstGeom prst="rightArrow">
            <a:avLst>
              <a:gd name="adj1" fmla="val 50000"/>
              <a:gd name="adj2" fmla="val 24467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806560" y="251460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378240" y="251460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064040" y="252108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819680" y="252108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ollins-Sussman</cp:lastModifiedBy>
  <dcterms:modified xsi:type="dcterms:W3CDTF">2002-12-08T23:52:39Z</dcterms:modified>
  <cp:revision>28</cp:revision>
  <dc:subject/>
  <dc:title>PowerPoint Presentation</dc:title>
</cp:coreProperties>
</file>