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B88-51E7-4E28-9FAF-A6F6CA86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CB5-493C-4B66-BC57-4DA4F753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464D5-95C4-4FA6-930E-339176D5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615F6-7B1C-4177-B58C-2B2A8707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84FC7-D68F-4F9B-BC57-77B9E2AD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EDE2A-C20C-4FF0-9FC5-49B78064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F93B3-DF7D-4444-BFFF-5B9925D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4FEA0-8193-4D13-A994-2BB26FD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A77C0-E402-4CB2-9425-11539495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6D8A-3427-45EF-AA6F-F0C558F9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150E9-5562-447A-B091-A659C891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174727-0332-4333-ADA1-6B88FEB3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C78-F40F-4B15-AC2D-D3183639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28B1AF-1BC8-43AE-BE6A-852F9995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4E39E7-E351-489A-8814-5E429B19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594B88-0C78-4835-98FA-C4E3731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0285AC-6EC2-47CF-8190-A9DD2AC0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E9A408-C3DD-4C3F-BF85-F94314D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77BFA-AE24-4974-AABC-562D3920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02333E-735B-4E6E-A6DC-6C230F2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503CCB-FFC3-49DB-8BBD-BD1245A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86F019-DF96-40F9-AB4E-215095C5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DDD176-AD19-408F-99C5-D0E7BD9C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2D6-4215-4A91-991F-51EA0A1E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F08E0E-B999-489A-8D00-603DEFF5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68560-F12A-4567-A05D-0D58C4AE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C98B1-44C9-447B-AEEA-066BCFE9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ABA10-34CC-4651-A0CE-0B4596AC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9F2DF-0951-417F-AD47-9B874E89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9A181-B813-4BFB-BDBF-E059F264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C236E-5FF0-4D92-B9D2-6F93BDE4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7E3FA-8D02-4F56-B874-447CC58A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3376E-F6F9-4539-8633-BABD276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439FC-8BA4-4B34-81C0-641C38C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AE0C-8C57-40A4-B5AB-0CB9DB2F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752BB-BCE3-4323-A9D7-55CDCB52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86DB3-6B5C-47D2-B52C-888990BA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D0E87-B07D-44F1-A05B-9911EC8A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E22A6-CBDE-4D35-ADDB-87AB3C7E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02D09-136A-4273-982A-A4691133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1FD2-2E58-4BB9-B722-1188401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FCA3C-7D90-4774-AE4F-DF962845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44925-189E-4183-ACA4-CF292463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A4144-6AD6-4613-8A9F-CA879D3F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5F917-8D18-47DF-A7A4-F2FDBD0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3DC6-1562-4A89-8741-781F6C94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2B3B4-8EEB-462E-86A7-7B19198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5EBEB-91F7-457A-A6E4-1152771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40889-9EFA-4C95-9F8F-5CAC9B4D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3400F-236D-4208-A4C4-1AD253B6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09241-F4FD-403D-AA6A-CA56C612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DC1-8B07-443A-ADB6-D478BD4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2AA0-50D6-4F8F-B5DF-2B0CB9F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20AE-8854-4785-A90F-462B52E3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2C6-C68A-4F7B-B8E9-525F2A07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AB9B-FC0B-4C02-A0AA-1FF720F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C83-B2F2-4C17-99DA-2B53E10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9650-B4AC-485C-B852-0801298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E30-1B3A-4F57-B709-CE49B7EC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D80C-C81E-4119-9563-5D125DA2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C10B-81E4-459F-9324-161891AF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C45-3F9A-4958-B4DA-4CCD1165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3BF3-3A5E-4929-9D7D-F1E5B11A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DB43-188A-4721-886E-13860CFF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3344-45B4-481F-85DD-A46D0F0C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66B3-F730-4105-9B24-9305D5ED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1505-6953-432B-8DD3-E3FB175A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838-152B-4FF7-9B33-AB6E9391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D3A7-121D-4806-BCD4-8B27A867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07AA-776F-4840-802A-55D66AF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DA67-02B7-45C4-B560-EAF6D7B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229C-34A4-42D2-B82F-2748B8F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70D8-47AC-4815-814C-F233D11A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55BB-AADB-4A10-B6B5-261F7852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0AB3-F32E-452E-B23E-DA8B3451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D662-99EF-4F60-9434-9991F154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4343-A1A4-4D85-9851-F851E6A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F2F1-A64F-4E71-8861-5FA2B1F2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32A-63F0-4079-BE81-CEB85ED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D39B-A832-4D82-8AEE-A059B75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82F3-7764-42DC-880D-71FD13D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1AB4-306E-4EE2-ABE3-A9F2CA5A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3A74-5643-45F5-B3AE-FC741C4A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F669-8379-47FD-9123-DD80F42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5CA2-CB14-4DF5-82E8-B6BD0F2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4E55-28D2-44F9-9ECE-4DC81E33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102F-D660-4667-B5EB-ED4C2449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8059-11B8-45BC-AF59-76F68500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13CD4-EAE9-4963-A35A-577E634B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9B9-4883-47DB-B94D-E2CFAACA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2988D-B218-4064-AB28-E0B65434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A7E38-3FE9-4246-988A-899DF924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C1C00-9771-4E1D-BD84-34007947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6E2C2-E2FB-400B-A039-EF890A6B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04605-8ED8-4C30-B190-1C744FF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F719F-4E76-4DFF-9B06-E721536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336BD-59E4-463A-862E-9805909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F2A75-BAEB-4DDD-B7FB-13C8AA13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35386-A168-493F-966B-F34154AD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6F3A1-B367-41A1-9207-49B56DED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B4E-1BE7-46D4-AEBD-8CD69AB3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22F39-6B18-4368-A651-23F2114C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E462-C273-477C-937E-FE52A3EA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B21CD-8D12-4DDA-997F-40FE9075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1ABE-2D57-49B4-BD35-673202B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9439-B9D5-4495-91AD-51994068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E495B-B2CA-46D3-81B8-5EB2E6B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73E9-0D3F-46B6-9EAA-0CACBD3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5A6B-2AF7-4217-915D-6D52979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F60F-1438-444C-A853-17A9BA6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92B78-61EA-4D17-AB7C-F2B5E20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21F-4224-4F4D-9221-C8BA73F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A5FA-49C5-4518-B2DD-A2B00FC8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4627-5FAF-4F7D-9379-CAACF36B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7C4EE-A00F-46F0-84D3-27586D1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24CA-A704-4B27-AAC0-A1E5E53C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AD31-1312-4F91-8E04-BB47994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04B4D-E84E-4184-A100-A9DFE3CF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1566D-9D1D-4AA6-B533-8BA3B40D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B8E1-6024-466F-A813-E14EA9D1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8CD0-0AFF-4C5F-8504-5843F226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0797E-950D-44FC-9E35-3195141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288-1237-4B9B-B39D-886BB22E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1160-ACD8-442D-AB63-B80A1B29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96A5-2F0F-4E78-BDC4-7909166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8759-45E3-415B-9E8C-12F7F4B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B42D7-2D6F-47D9-ADC8-B8E7456D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2F32B-5A93-467D-9183-4BEF6017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FEC36-808D-4ED2-BF01-D5C9596D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E557E-FC2E-4871-8571-3720C5D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2AA2-FAC8-4A29-BBC8-3B7FFE0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BBF7-56F7-4161-B6DB-CA72760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63CEC-7EC6-41A7-8AEA-E19E708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D53-A950-4884-AF59-7A3C560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279B5-0867-455A-A799-14C1F906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38FA-60E5-450C-8028-C486904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E5B7-F42E-4077-B49A-6E75DDB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247E-A7DE-4DA9-BE6C-0F300EC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3BEF-D7D0-43C9-A36C-DE6CEEBC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EAAB5-7B4E-4AA3-BF88-EEBA76A0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F499-ACCD-4462-985C-11B70884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78258-4D2F-4C8C-992F-FA0551AF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35A9A-6206-418C-8853-532F80E5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931A6-F313-4870-852E-710F9459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9237-D5A1-48FA-B625-F0AD37FBC7E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0C6-3421-4AEF-B1D1-81593511B1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C6C0-721C-435B-8AED-0CC2AF886D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E5EF-E1F0-45B2-A0C2-24914DE5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0E90-3209-445F-8287-0BD3F9D0F0D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E3E2-714A-48ED-A7EB-0672866A15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80ED-FF4F-47FB-8DB3-78FBBEB5A27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99D1-3540-4DF5-A66E-7E78C8CADC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67C-56F2-4DA1-977A-A4999577259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349-CDBD-4528-825C-03A3AA9456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4C59-24BE-48EA-B009-B9E442D61A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6FB6-228C-42E1-908F-AD0BE332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E1CA-2A9F-4D0E-9635-A92148F662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1A56-0BB5-4F20-B5C1-3EFBC85A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EA73-8265-4529-8116-1D92567488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C9F4-87E6-42A8-9F03-7344905FFDE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6F6-7CDA-4927-AF4E-D22E2742DF2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9109-6D23-4406-928B-7A5259C635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FF4-B2E2-465A-A12F-99229DFE215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04A1-A6AA-489D-916B-63F1EE8D06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BEC2-6C2D-4709-8A83-030E6AEFCDE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D6D-4EF0-4729-B57E-D06123311A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E14D-BEAB-4B2D-B720-AC9405C9A4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841-19F8-4FB8-8E1E-9BE654FC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D25-ADAD-44CA-9AAE-74CC4E01A4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560C7-7E24-42DE-A031-489203E7861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B758-87A0-4228-8049-26426B4681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B7168E4-3D97-4C91-8D2D-53C74300D469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AEA7-C4AF-4F91-912E-3573AEE28DF5}" type="slidenum">
              <a:t>3</a:t>
            </a:fld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09B03-84DB-4619-950B-2B2DA54B3DA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5AD4D69-CD41-4457-9E36-18E9E5A4082A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9E783-D682-460A-95A3-0410287E37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7790EC7-A236-44DA-84FB-E983ED805A26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26E7-F96C-4458-A43C-00650564C4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47FF243-D877-4272-BED0-2FE3EEB605BB}" type="datetime1">
              <a:rPr lang="en-US"/>
              <a:t>07/31/26</a:t>
            </a:fld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