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EF6-10F7-47B6-A110-C5A91E89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7F0-F161-4A91-AB92-0D8D144C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6E1C8-C80B-4585-A66F-DAC3FFB5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6F567-47BC-406A-B5E9-E297F6D8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8F418-840E-4730-AC7D-DAF39A32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FAB0E-EB2F-426B-9973-39E9C6F6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59248-A6A0-4E67-B825-DEB9898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18239-A1B3-4DFE-8AFF-D640E51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8591A-841C-457C-9078-0DD12D02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1F9F3-E43C-4247-B413-8648FACC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C41A0-FBF8-4962-AE86-D9F6D6AB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83B51B-054A-4177-9284-81B4CE23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94F-89AC-41DC-8293-24EF3302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193F2C-77DC-4512-A7A3-DDE68EC1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7F86B-86F4-45FC-8A41-AC71574C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423071-426E-4A4C-AC50-07D29012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4746FE-FD03-4E20-AE0C-0FF84084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6FBA03-7685-4833-B53D-F04DC2F4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C5A4A3-9C60-4EB8-A1F4-93EC9827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147C16-F07E-4854-B288-CA633CE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A928BF-4296-43A4-BB5E-EB2B200F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FE9638-920A-48AB-B8CD-0CAAB709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EB241D-8116-4759-AB08-FE7A34BB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6C9-3E8D-4DA5-9B72-271E2B51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FD713D-EACC-46A9-8676-714BC0A9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10430-B3F3-4841-B658-6EF361AF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36D10-70F6-471A-A557-F3E084A5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6916A-08B9-4CC2-AF34-E02762E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2F6B3-F6CD-4540-9457-87EC7AE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77819-BAD1-425E-AACD-06BE475D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34952-D2C2-4160-8EE3-E62FBBA9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65B27-6EB6-42B9-BE5C-2A32F221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4DF10-2719-415A-8A79-473CAF17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B6ABF-2ADB-425E-8C76-49CCDE2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373D-847E-4266-9961-F41B5D0E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3D612-38FB-40E1-A336-3330392A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4907C-AD46-405B-9F2A-5C65F2EB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E35EC-4D25-478D-9807-C30C1A3A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4A829-1EEB-4261-957F-C7DAC8CF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CEC72-4884-4EE8-AAC7-2D112918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FAE24-A521-4B28-8ED8-6A003299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8A1FE-B345-49B5-B79C-A31FA3B6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DA3F8-42D6-422F-97FC-2A87DFC9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F01C9-7A99-496E-827A-F2EB500D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9EE7D-D134-4533-A0E0-0A71B14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59F3-4E2D-4A9A-AF63-4FC0C2DA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BACF8-2652-4C8A-BC7B-AD7E541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C4DEF-54BF-4861-97DF-125A9374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BEFDE-03F0-4D12-AB22-583D3DEA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126A1-9DDB-4D64-B07D-F26769BE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0D13E-D2E2-498B-8BEA-310C6529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E0F4-441B-4F22-B149-53C4ADD9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6DEF-CC02-4740-8BC8-EA533D0F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0A54-C20E-4B68-98C7-98E87FEE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9823-C2D5-4DEE-916B-C651EB8B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2E8D-8A01-4A9D-BFE2-F44B228F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629-6E2F-4990-9FAD-DD6F37F8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E44D-E1DE-4FC3-BC18-C1F6E12D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468A-148F-4642-903E-C58E8583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2BCF-F7D8-4C12-A3D9-A136AB5F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4C79-3E4C-46C3-A917-338A89B0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05A1-3F59-4D9F-9A9E-12657F16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35D9-1F6F-4891-9EFE-D03BAC9C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810EC-C249-43C4-B3E2-EF20634E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6946-60F6-4A46-A42A-20BFBF9C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8548-C09B-4EFE-BCC3-A6888A03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4473-8B2B-44E5-A5FE-AEA68894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11F-210D-45AA-92C4-B71B4793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8995-807D-4BC4-AC98-ECD2AFE5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3686-9C01-4C24-AD21-C1F75EE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A721D-F991-4317-92D4-8A230526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9AC0E-A36C-4E82-9D58-761AAB3D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B59F-5632-4B2A-B270-D2887681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35AD-FB3D-4170-AC28-8E33D65E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5EC4-5185-405E-B06B-851BB957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E351-29EA-4A41-84DA-90269899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7605-8561-4D85-B8F2-353910DD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49C2A-04E1-4BB8-B302-888E358C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0BD-B851-452F-B1BA-89CD315C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FCAFF-C1F4-44E4-A480-CE89629B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B4FEE-0A1A-427E-8CD1-F54F9CAB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97E3-EB6D-4D37-916F-ED6D0D0A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D5876-EFEF-440A-AEF8-09A3FB26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342CC-B049-4190-ABF8-CC3A8EBE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8A71-436A-4E3D-9E23-AAF72C49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7366A-3AAE-49CB-9208-0873A2E4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8EE54-7295-4185-8676-6039D8C2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30A2-3567-4C59-8D96-4C8A4D54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BC7FD-1C07-4AC4-935F-CAA2C105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D08-7286-4AF0-8459-83D95241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9D7A2-549B-4779-889B-E0060A5C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71D16-65B8-47C7-B7E5-69A3901D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332B7-5D5C-4AC9-B172-F4CF1575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35E3F-A48E-4DE1-BEC9-2AF5BEB2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56218-2F90-4E3A-A2C6-CFED4864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F8B12-2E0D-499A-BCCA-0D19DEC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C7140-C557-4C14-8A7D-B28DC7F5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AF623-AC33-4E17-B8B9-465B7303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693CF-239C-4BD9-994D-8F61369F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DF151-C0C8-4409-A5E3-573A796E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168-28D2-48B8-8BEF-C17A6162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C6E2E-0FC2-414B-B681-AE8F7813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F804C-0A42-49E1-B9D5-C049FF95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C28A3-F070-43CF-9167-5E1D44B0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CB1D-99C7-4F92-9A2C-3B579AC6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41921-92CD-4E80-AB6D-C6E9AB46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E5C1D-AE90-4365-9722-91A51926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4F325-451A-4B65-A069-856AA76C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7AE5A-155C-4D04-B873-7E9E5FE6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B337F-81BC-4D4E-965A-3C292C0A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AA273-5DF4-47AD-95C1-AF6EF7B6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2EB-B855-4E9E-AAD8-490D0011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DE963-D36C-4ED2-91FF-D516DEED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AF244-0751-4025-A8B8-38D54D2E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37580-DC48-4CAF-8545-E7F7AC78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6551B-D897-42BB-BEC4-5638E2B9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86691-A473-4B93-99AB-AD0B5659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961E1-02B5-4FA3-AF10-6EB23C17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4B649-97DB-4B05-AD3A-80E66A3A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16F57-C88A-4344-AD31-1D0984E6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DB9E6-278F-497E-BEB6-BA0242EA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A6F19-FD52-4769-8EC1-EF7C01B0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9C5-CC48-41C2-AA13-DC76100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4EAB2-A92C-4576-B47C-A0F07ECC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29547-C4AC-4754-B1EF-C7C9041C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7E7E1-D82D-4B32-989D-D6F98E6F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137A9-D6F0-4969-A45D-966B8164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7F1C3-585E-4FFB-BA9A-0D2CA9E5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CE65C-3DB6-4911-B6DA-C93E68A7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EC11D-0567-46AC-A923-15FB8057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4AA1-5864-42A0-B667-F4E023A4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012BA-9AD5-45BA-B9D7-F294D9A7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644AA-AA24-4FDB-8141-B10D9626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2AD-0F78-47DC-B3D5-F9AA92A5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9C859-2866-4B31-A0D9-730CCAE1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D4CBD-1619-443F-B2BF-A97B617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35409-1F10-4039-9C6B-5406E513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6CF26-1297-438B-B4B4-221CE47D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2E73D-E99A-42C5-A089-D0482138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94DB6-E025-4A39-ACC8-5BBB2934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ED6A8-D7EB-4AC2-8B17-82B7D708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E299A-8FFD-4A12-84FE-A700B5C4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B8FD4-5691-4BB6-97A7-147D2AEB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30E7B-E239-4E07-8C05-8E7E7A4D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F457-65FB-4D7E-98B2-E2AEB0F26F0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44B2-4020-46BE-A2F0-9E2FAB05D9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8A40-580B-439C-958C-983FDCD7FC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E843-814D-4947-8300-233BA08AE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CA73-2ABE-4A03-A2BE-DFE7539FDFC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4508-01F7-415D-8545-19F0BB9109E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FE4F-2D6A-4DB9-9AB5-FDBB65CA8B0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AF65-FAC2-407E-BCD2-2ECC8DF33D5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53E3-6430-4C25-81C2-270056DD125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D505-39A6-4D58-85E8-172E6C1CC3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887E-D837-4A73-BD00-9772EE6243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8A5B-9DF1-4252-B228-258D98498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368C-3523-48DE-972A-586D2BAD3D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3086-8F84-48DD-A069-B79FC2DD5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E45D-4E33-4A13-B545-50F1C57AD8B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598B-4EF2-41D2-B540-4A4A009190E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C18C-AC43-4813-B039-05D3A0502D6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B74C-4CCC-440D-83EA-BFDE186BAE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B853-0F6C-42D0-960B-7594B8A8D5E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E53B-9EEA-40FA-B655-871D8AF364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3578-D8C7-4BF1-9B49-D2C19D074F7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9089-4462-46EB-BCAA-59062E194FB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713B-AFCC-4E93-8BCB-C7D3506B38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C01E-74B8-430B-90C9-C97ACA02B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F34-6523-437E-8630-90D3DAAA5E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28CEB-C487-404A-A880-E260951814A9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7523D-68B0-47AF-8818-C89E38461F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DABB28C-FD8B-445C-A8C7-6F74DCE98B61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CC86-01D4-4882-9FDB-96A6717EA4EA}" type="slidenum">
              <a:t>3</a:t>
            </a:fld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080DF-AE45-4F4A-BA1B-56EE029E8DF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F3F6BBF-CE1B-4DD4-87E1-12B7767DA6B0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DE2A4-0DAA-44FC-AA26-B77C21CE3C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996ECBD-D341-429C-835D-262FC22AFF2E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7AFA9-96CF-4E0D-8685-4FBB460884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BA81CC4-F860-4520-8BB0-2CD47CC294F5}" type="datetime1">
              <a:rPr lang="en-US"/>
              <a:t>07/30/26</a:t>
            </a:fld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