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79000-434C-47C3-9FC4-85CA0CFB9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4956D-72E4-4763-9A1C-61F28DFE3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DA6DA-A076-41B1-9AAA-93B04A92F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B49EE-EE2C-424D-9801-415E69F84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F2710-43B9-4494-B888-783B04820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65A6B-F154-4EF5-AE70-041F0A51F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05FEC-BF59-43B3-9FF3-D892ADF43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FDD01-12A9-4227-B922-02B741BE6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026BF-9D3D-4395-9794-12C071958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CCAB2-AC7D-4C75-86F6-02082F9FA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36913-DB56-4E0C-AB95-EA14C34A4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AAA79-ED6A-4715-B25E-36D5B80EF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898E8-F211-48D6-9B6F-D55E649572BF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44964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10656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34920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Vertic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Horizont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uble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965680 w 7197480"/>
              <a:gd name="textAreaRight" fmla="*/ 4231800 w 7197480"/>
              <a:gd name="textAreaTop" fmla="*/ 1482840 h 3598560"/>
              <a:gd name="textAreaBottom" fmla="*/ 21157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5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8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16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2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32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148920 h 35985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21:57Z</dcterms:created>
  <dc:creator>tb121644</dc:creator>
  <dc:description/>
  <dc:language>en-US</dc:language>
  <cp:lastModifiedBy>tb121644</cp:lastModifiedBy>
  <dcterms:modified xsi:type="dcterms:W3CDTF">2005-05-25T11:22:14Z</dcterms:modified>
  <cp:revision>1</cp:revision>
  <dc:subject/>
  <dc:title>Slide 1</dc:title>
</cp:coreProperties>
</file>