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1EEC-4DB7-44DC-8DB9-D94D1254F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A70B-B135-4AF5-8055-4AA37024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6168D3-3BCD-407B-8BFE-ED308D1C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6D0CA6-C8CD-458D-80B6-9B418FD9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795839-7CA5-4A7B-AE62-CC1A6E61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A17C9A-2CFC-4848-98FC-B63ABBA1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CB07FA-6A3C-4CD1-BD69-9801E3AF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858F1F-B678-4B08-AB9E-A44B24A0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2B1213-4F9A-4F68-AB95-61AEC993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869F5E-6594-4F2D-816F-713228155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B15D51-91EB-4B1C-AFE8-280943441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D8FFE4-85DD-471B-AD40-64F5E8F3D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2E39-749D-4EA9-8E7E-F19461E61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448B7B-01D2-41B3-A396-476BC974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65466C-584B-40E2-AECC-5B0FB87C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B23253-2379-416B-BAC9-3E9EDC62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FDE0CA-6277-407C-96EC-E8E56C40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2A4F17-15B6-4845-8A3A-A5FC334C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C41714-61DB-4749-9818-DB15CDB2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F6D960-5136-4A5D-B4E6-DA0A846E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689486-AF96-4321-8BDD-315771A0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57CD2C-4FC3-4178-B79C-09BBBD78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2FFCAC-16CE-4C73-B09B-351543EE9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67B2-8BA8-4D58-BC89-A63851EA8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15AC35-0DDD-4778-B12A-6CE1F3E38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011F18-7AB7-4FA6-B029-E35DD07A0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7E62C-3081-4D33-80C9-0D9B0F5B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165A9-4E8D-49A8-88F0-9A2D81AC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8E1FC5-5CD0-4EE6-978E-873219AB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33124-E8D7-420F-B92E-33D1ED99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D734A-E40D-4467-AF71-2E5BEE1B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0C3C5-77CE-42F8-8D98-0EC43F93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7DC654-CE74-4410-8103-5D010AAB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401F3-CA5E-4F17-9DB8-179E9525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EBB2-5CE6-4F03-A045-64B621892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58670-B01A-48AC-9995-6BED4FCE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5EBA5-3B47-4F6F-8386-439127590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E2A0F-E55B-4422-B219-9DA93DEF2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BA7AC9-9626-4278-B271-F55BD0781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58BD99-84DA-43D5-A46D-A29D7276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18F506-4D58-48CC-A06E-4B4F0995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140BBD-80CD-48FC-805B-49EFF4DA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E1CE02-D62F-4F16-ACE6-33FA0CAE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FEB4C6-910A-4D74-999E-B69B6D93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D3C9D1-805D-4FB6-BACF-658C65DC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FE99E-41F8-4820-9823-EF200CE0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FD4B90-CFB3-4A60-A983-A3FC5DF9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C469F2-EA81-4688-BEB4-8B6D35CB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EAF967-D94F-415A-A8CC-FEEBE215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BE1829-9205-43CF-A3A6-29E49B2AA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EBDC3C-F4D8-4585-8B1A-0FC82213D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4E80-1560-44AC-B1CE-FC318B7B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8A37-1896-4F89-A9CB-BD10D964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604B-CD58-4A84-A0EF-603E8A18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5B56-83F2-47EA-82BB-0BF0B9FA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FFB1-59A7-4840-9803-DABEA071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F3A6-811C-4E33-AECA-3076B441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B4F1-A9B4-4EB6-B3E5-EA8BF0DB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F74CF-A7BD-4C55-9301-C2E31EAF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2DD50-B4F1-4DA2-B308-7985EE54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38D9-2C15-4A83-AD56-DFE73DA59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2AD0-F854-49CC-93C0-E9B3EAC01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1A2D0-156D-4298-B6C6-1DE9E5BAC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F2393-366A-4806-B340-3C00938C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F8053-5933-4323-A62B-D1486AAC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26784-1BA3-431E-A959-3B2A9B17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55740-2A0C-4C56-95E1-2F4FDD21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1F96-A9E8-47BA-A8F7-37D67993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14EB8-6AF1-4F5C-83F7-79E16D5C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923CC-79AA-466E-81F6-713A1177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F15BF-D74F-4FCB-9494-A6B67F69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210C6-8258-4ED5-B8B9-A8A8F950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9E255-BD75-4D32-AC96-EFDD6EB9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91BCF-9370-406D-9180-59B41F9ED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AF450-00B9-4244-9ED5-CE14F3683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C2B42-093F-4B61-B9C1-C2415E13F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C83AD-0EEE-4B48-B8EF-8C15F90C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8468D-4838-4329-B10B-E16A394B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84A1-86D1-4C24-B336-CD033399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56FD1-BD8D-46B2-92C7-10CA2741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C3DAD-A0A3-4467-88EA-5092801C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EBB44-2F65-4A70-9E90-9D165B26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3C9ED-1275-410D-9A03-E7CE26E0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DA135-9701-4EC4-8C96-47047163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E97A8-124E-463E-B5E1-57DB6DE7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B0ECC-02FD-491E-8F62-3C15D5A3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05119-B2EB-4B11-9BC9-2BA835499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A6D87-0B69-4286-A2BF-4B866A02B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476C24-A79E-4031-8ED4-2231D2785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7837-B848-465A-AB37-9999EC0F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37DAF5-61DB-45E4-9BE2-991DB02D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F557EB-B1C4-4300-A9B4-6FCCDC99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8B0FF7-DE1E-4EC6-98AA-6F0721F0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66B0F7-5199-4CB3-8D20-8AB92C45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DF3610-CAA7-45D0-9EE1-BF66FEB1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7B25D1-F9E9-44E0-B9FD-920E207E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21ABA1-775A-4F5B-BBF8-85A48A42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EF2179-1DEE-46D0-83FA-9FC6807E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0D51AC-9AC1-468F-ACC3-E57A2806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7FA701-306E-428E-845B-DFDE28FEE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CC62-BBFC-485C-87A9-E21E68F4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D3BDFB-F630-4224-8901-9F6CD9F90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6BA5A-3F3B-45FD-92C3-6DB4274EE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5E3F7-2AEE-4DAB-9644-41E543A9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B5740-1625-4D6F-8EB4-7F6AF816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FA09C-CE11-43EF-B19A-045F99CC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47125-E7B3-4814-9DDC-F71F0817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D6A57-D8CA-4CF4-99DE-25AE37EF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FBE07-81DF-4C70-8F50-5B550F65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023E1-B26B-415D-A81D-1F2058BA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834A5-0105-416F-8013-8320AF75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F1C5-FFB8-4000-B426-185B3995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C223B-E2FA-436E-A6D7-BB379EBE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88AE2-EADF-4FAA-8E6A-A631E8130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E2F59-B8EF-4531-B0AA-DA3CB62CF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C1A93-DE32-4B55-8E87-0576B0590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2A710-04A9-4C76-8202-196F3C50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C980D-190B-44CD-96D1-50AC30FD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DD63D-0316-4485-8DCE-79AA8D80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9A091-FE9A-489C-A998-2448CE44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991A8-FD34-4F02-84BA-BA831387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CED50-C3D7-4ADA-ACAE-5D50AAED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A143-C52A-4A56-B978-C69A8992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7F8C2-31FD-4A11-82C6-F8E4C6C4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08EC0-F2B2-4B42-BA87-42E4E307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8DDC3-279B-456F-B343-7C9232C4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47FFA-F819-4088-89A9-6E45C9F80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92654-3D50-48F7-940B-405D06CB0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7280E-684B-4060-8033-F2B209800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C4329-C59E-47C9-BA49-C1249692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4FCF2-6B30-463F-AA5D-080C2066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64892-1557-4F6A-A89B-B418E5A6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2772A-C535-49DD-B97A-D6FFA5F8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A5C9-132E-4C61-B82E-88E04024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F2B6C-3221-444C-98B4-FD6270BC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B4760-CA55-42A8-BE08-F744A7AA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636AB-966B-48AD-B397-073737D9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972DC-67AB-4364-96FC-FE1572CC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83273-4E30-4C1C-B99B-CAFCE7DC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59D9C-001F-4C30-AF84-F06865A89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872C2-5CF4-45A1-9DBA-36F5E4B3E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3D2EB9-21AE-4333-8F79-CF87CB704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6C9758-4178-4280-AE61-F03CF213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FCCF9-32F2-41C4-AE0A-BECCC3FF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ED0A-89CE-4E73-92C6-B4570CD5A50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2B4C-A0A0-413D-B405-F8F7771AF56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F2DB4-1BCF-42A3-9BE9-72F032ED245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F092-A8B3-4C9C-B33A-977F82597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8A38-2096-4A52-BDD8-31CDB30BFFB4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9B0A-5A13-4E04-9354-D3951F53B9E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4137-1256-4AF0-95F2-3FC2BFFABF44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5E26-FF13-406E-8B84-BA955551B49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3673-82C1-495A-BDF8-905DEB65B4A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149F-7375-4E42-AE58-020CF287640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9335-1B76-400C-8B70-52A79B5725D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28D5-ED0C-4397-A008-67AE2720A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E899-9BFB-4F00-B108-99331810529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9779-45D9-4AE8-8627-95818AB7A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AD39-C2FE-4EFC-963F-0CD17D143BB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5390-1959-46A2-A96C-932A421B6974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969A-BEAF-4702-B78B-09802160A789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245F-1274-4820-8D41-A2C9435EF44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9AC3-0375-4E14-A6A5-FBC367A245A6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8613-1A89-4113-94D2-8AC194988B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CC64-B223-43AD-9C5F-12C18BEADA96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2DE6-1A03-4AE4-B1AB-8B975524D8A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EB6E-3F0D-4A9D-84B6-39DB1A920D3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1099-C6E5-44C1-AEB2-EE5D74D99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6BC5-6EDD-48DE-9265-98EFB0B9B82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22F706-A183-4EE5-BB82-326D115B8BF1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0456C-C8D8-4DDB-8ECF-2F0BD141964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C784E14F-1339-41A9-A030-EA983E9F2774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amond(out)" transition="out">
                                      <p:cBhvr additive="repl">
                                        <p:cTn id="131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35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DF352-8730-4D10-B418-2177D3404350}" type="slidenum">
              <a:t>3</a:t>
            </a:fld>
          </a:p>
        </p:txBody>
      </p:sp>
    </p:spTree>
  </p:cSld>
  <p:transition>
    <p:comb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EC8F01-2EDD-479A-B719-801A205B64A7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42656260-934C-43EB-BB9E-3D4ED6BD8664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534AD2-9F16-4E41-A384-92BF801632C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EB8B01E8-8705-4AD0-BA5C-6514F9A5EE49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000"/>
                            </p:stCondLst>
                            <p:childTnLst>
                              <p:par>
                                <p:cTn id="2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7000"/>
                            </p:stCondLst>
                            <p:childTnLst>
                              <p:par>
                                <p:cTn id="3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8000"/>
                            </p:stCondLst>
                            <p:childTnLst>
                              <p:par>
                                <p:cTn id="3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000"/>
                            </p:stCondLst>
                            <p:childTnLst>
                              <p:par>
                                <p:cTn id="3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AFA3F-E64E-4975-8DA4-53C57C8A5CC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92216908-ED73-45CB-8230-C396E888C378}" type="datetime1">
              <a:rPr lang="en-US"/>
              <a:t>07/31/26</a:t>
            </a:fld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