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7E3-7EA4-461B-BB76-88394AFA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1FAC-4589-4019-87D2-CB2C574E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54F68-4070-44E5-93CB-D53B33DB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236AC-ED45-4550-A82C-ACE8B7E6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83B93-3988-4C1F-B976-75F931C1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89927-68B7-437C-B864-637DB3C9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D6374-E228-460B-877E-025AFEF8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33F9B-E4A0-41C9-8EF0-04EDD375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17448-4BF5-4275-AC0C-E25968D1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1CE83-D6E5-41A0-AF10-A919EFDA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0BFD8-D576-4C9B-80D9-29FB5EC7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5304D2-787B-4F40-B7E1-85A8E889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5BA3-43C8-44E7-B742-851DCBF5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97A258-53B5-4F45-9C87-EAA16D06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760A72-B9D9-4391-873F-AFE258CB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98D286-2108-4FC2-82A3-A4293AF1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3489E6-A9F1-4684-9BF3-A384641E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34826A-FBF9-4DAC-B736-90E77579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64EBBC-9CB8-4695-A168-987EA276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35814E-DA5C-4052-A3E9-A710CF73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1473C9-4A1F-4EC5-9C9F-D330175B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68369C-8793-4952-87E4-8E4F19EB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CB2B96-DF39-4C18-94E6-906A8185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954-0FE6-4DEB-93FE-7237DC9E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658E3F-BABA-4EAD-AE07-0B3A6C2B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0620C-48FF-4E15-B6D1-F2E53C83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DC158-03BD-4154-8278-AA7FC70A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F19AB-1115-44F9-9D5D-3744D0F4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EFF5F-7A40-42C4-98D5-D4FEC3B9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46E3C-4F2B-4F53-8410-D943D418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8BEF6-15AA-47C6-956B-B302B58B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D39A0-7DDA-4516-914E-E672C7C2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62F6F-E6FB-4D48-AF30-55A770D8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5797B-CC5C-4DB2-A7DD-06B53A19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F74E-4A33-44FC-AC1F-944B889C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6AFA0-7DA5-4556-AA0E-C8723DB9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5F92A-6751-423A-B073-FA605072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03E1E-24B2-4280-B1BF-409307E1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EFF62-DC42-468B-8590-8610C959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87DDA-31A3-46F3-A14A-392791BD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EA149-23CF-4742-910A-97E28866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61132-C660-4C35-B21D-54C59FCE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2A885-59A9-4130-B01A-C420BE29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E2667-6200-4DC9-9535-F27982F5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59317-1EFA-4D42-85F4-398F768D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E01B-F423-4302-90A7-9DE79032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20AAB-ECC8-4575-B717-27E092FC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A47A7-6F3A-46AE-BB7E-E8224124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5E9D6-9797-48A1-8149-A54B1827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A098A-05CC-47A2-88BC-3CAEAF64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DE977-6484-4E2B-B9A7-83F39D56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94CC-2C5E-4FF5-B3BC-D483AFB2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2DF5-C1D5-4986-B4C5-5E62E630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C5CF-6991-44D6-B540-78B2EED8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30DD-5697-4439-95B4-431F3456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B848-B130-42AC-A112-E416683D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6A9-98EC-47F4-98FB-082A47FB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F5FB-A098-45BD-96CB-0C5AD42B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8855-72C5-43B4-9A33-28F588F6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B907-C006-41C7-BFC4-A2065E83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FF71-1822-4A9D-9BAF-99FF8A2A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15C4-3EB4-4D26-AF7F-77F5C044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E7DDB-E55A-43C5-AECA-931B057A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A0620-F281-4AA6-A9A6-1D05CDCA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EEA2D-3931-4789-B230-5FBBF7C7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11EAA-8CC0-4F50-9575-8E31AEEE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39FAA-283E-4E60-BA86-DB00825D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8390-90B5-4B86-9850-C80CA5AD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16B57-99DC-4AC3-B2D9-F92B32AF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C59D1-A188-4950-A50F-4C328F5E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638A2-052A-460F-B958-97D8ADA6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B9591-C6C4-4281-B7D5-1E2159DF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07D7D-423D-4B38-B1C3-47ED131E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13B26-92C3-4AE1-BF57-F86DCE93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E6B4B-601D-4DD4-B0B1-9CABECFC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8A290-2316-4C32-A9EA-EA2A6933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919DD-7EC2-404C-86B5-815CA8D1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4CC82-0DB6-45E1-93E6-32125768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EDB0-38BD-4FC8-86DF-B828A6FE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43EBD-6A73-43AF-9AED-FFFE6C4F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66044-AAE6-4737-BE44-A6640C14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128E6-7DA1-456F-8D00-153B6944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BE66B-DA48-44D5-BAAE-C69C95DB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48CB3-4394-4587-A7EC-2237CC81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04296-C15A-4D82-8017-1D27D532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B412B-9B6D-47D9-B2A6-EEEE7535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69CDB-DDDD-4AAC-BED5-3E660A57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FC96F-30A9-49CD-95D6-BAFF7EC6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78C4C4-38F4-4B92-85AE-CB8B21E9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DB87-CCF6-4271-A00F-21E999E1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C9E3F7-AB0B-4E12-8C5D-EEF2EBE4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BC8446-6CB4-4146-B0DB-3D7A19CE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FC7EB6-C5F8-481F-9B64-C934EB0D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2344C9-72AF-454F-8EC3-B80E2619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2B25FB-24FC-44BF-B01C-BE9E98C1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C548D5-AD77-4F51-BD50-2AD6B19A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AA259A-4843-43C7-B765-B5B49605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E44CF0-F3BF-422E-A280-38FB1122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E7F6E3-C60A-4C28-8B55-B3655EC5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A3EC0D-0DC8-4874-BFC8-941206B0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1A3-6D4E-48F1-8B09-F381C22E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369D6C-21BB-4E02-8186-F151041A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53C9A-EFF6-4DDC-8244-E9E3F4FE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FDF3E-487B-4D18-B2EF-0C3840F4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20E6E-736E-4D75-B7CC-B7F69AFF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69FCE-9802-4A12-A7B1-B50CD9D3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CA926-153C-4D32-90D9-281E3B4A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AA15B-3720-4858-B912-4C3AEF2F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89247-0961-44C4-A9F1-24217268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74C6F-68AF-47E6-8816-67BE1155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C0C1C-A30E-444C-9BC9-1F2FA388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211C-2B12-4A15-B98B-599839DE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42926-78E7-4F0E-A597-A3944C74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4101E-F0F9-4F66-B213-12ECD293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AA677-24E7-48E6-8EB3-B4C8577A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6DE5C-42EB-4B80-BC89-E7B68A13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356E3-D394-4D49-B43A-B863AB4A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188AC-B4A3-4C84-A78F-7D313DCE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18450-3AB4-46DE-BAC3-900A9454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FD858-84B2-4A9D-90B8-70C0A343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CFE25-00AE-4A22-931A-5CA03901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9CECF-87F8-4DCA-B886-0FC24098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F528-660D-4ABF-A9E9-91DAE89E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5A6AF-5F17-4B05-8B5C-B7A190DA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7A728-9C73-431B-83EB-F9628EBD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D7E08-35C7-4C2D-ADCF-8509A9FE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8C10D-6DD9-4AA6-85F3-3372323C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C95C1-C347-4946-BA9D-AC9D5FC9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51516-C08B-4EAA-BA9C-FB04D3D0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6D0D0-8972-4595-BA6D-817B82A4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C7F06-928E-4D02-B4D5-4158FD19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A5B5C-7159-477A-81E4-E06BE43D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382DF-2B73-454D-BE09-4C57256E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B931-A26F-4BDF-9C4D-E4258688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920CE-1033-4ACE-A6D4-D3E2EA7C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64F20-14FF-4F2B-B0E2-EE7382FB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20207-43E5-4C9E-93F5-BDEAC91D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69633-A599-4FE7-8391-72C75DE2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95538-6E3A-4542-A4EF-512DD1BB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CCC7B-4820-4799-9075-A349DACC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3CA83-6C40-45C0-BA39-D257A998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C57C9-AAD9-4762-BB2F-7177D7F7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A3E5A-3AAF-4579-A4FA-B22AA153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B3738-40C4-4C14-9619-81034804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9272-8FC1-49DE-B452-5B1CC7B9C60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EA4E-0595-4706-949D-99C2B5ACB6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3BCF-008A-4AF0-912C-E3B184EA9DA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474B-7852-47F2-A81E-7BA76FD31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1916-9DDC-451E-95CE-82D06DBDE94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7C09-E954-4A6C-8C04-1CE6C060AB3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1495-B4AF-4099-AF3F-FA0F2916F28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82C0-0F68-4CF0-884C-9B340EA5B09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3E34-4049-4437-A9C1-47FE737EA7F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3A02-56EE-4A78-AA4C-1F8FCE710B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612D-CF5C-472A-A823-10EEDD1ABE7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36F9-6C33-473E-A59B-D6AC70938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8478-B163-4744-94AB-2BD147A10EF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CC34-8EC3-48A1-B859-D5938B931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056C-FE36-49D6-8EB2-CA3C2BA1636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FCA1-9F4B-4842-A2DF-83F33CEBB2C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9F02-0FC6-45AF-84E7-44A8575E496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4A5B-AB16-494D-8C8E-BC974432652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3A70-3FB0-401C-BD14-4AE2393C607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5318-8379-453E-A7EA-75D7811EB8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39E8-B8D7-4EDC-928B-3362E13FD15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4B1D-9F77-4E2F-8256-4BC35965492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55B0-0200-4B55-B0F4-BCAEF7C1313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E8AB-5917-4208-B2FF-C3F891AB0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D18-1EC8-46BD-82BE-DF4CFB7168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B6EE3-7017-4FDE-A500-BDF8442AA29F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89DA0-AE40-4E27-AE1D-EDCC3ED59E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5D118393-A11E-475B-825B-3E55871AF025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F1068-5949-4E1A-92F7-73FFA285C298}" type="slidenum">
              <a:t>3</a:t>
            </a:fld>
          </a:p>
        </p:txBody>
      </p:sp>
    </p:spTree>
  </p:cSld>
  <p:transition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0A0BE7-576B-4F8D-A25E-DB6D19FFAC2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0E30CE9-1542-4B63-AA53-9E7019451614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D7DB0-524F-40F5-805E-F04EF74062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05D7EECA-2868-4F03-8FE0-C1C77D284082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F7B0A-933F-498F-8FAC-B95272ADD6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919CCF30-BC17-4FF9-A42E-EB2C24130364}" type="datetime1">
              <a:rPr lang="en-US"/>
              <a:t>07/29/26</a:t>
            </a:fld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